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8F9F-E53C-4334-986F-05D2B9829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C488-2404-442C-85D8-F468F1742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CE52-7303-43E9-92F3-C3C33BB27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5F16-B1F3-48A7-A669-CB242D459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4C905-08EF-4C7B-A756-57BB3F1C8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7C895-E997-4EC4-9A0A-E9A719F2A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080D9-210D-4C13-986E-A1D80EB65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F26DA-D297-4846-BD0E-7B3BDD65E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A1BB8-4FF6-45E9-A2CF-BB2C1CF6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C6F32-7FDE-4A8C-97E5-39BF3C910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7512B-9F0C-410A-8139-278031BD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9094-EBBB-4F3C-81B6-CF3641ED3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5CCD7-8266-4A1F-9859-37AA53F1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5220C-0271-49BA-ACFA-1C17C31B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F27C9-2046-4088-8602-80DA1E0BD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075D9-44CF-41F1-8D04-A0003C5E1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D404F-8D87-423B-B349-3AF4B439A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EE91-8642-4C07-9A46-C611082E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0586-044D-4F8B-91B6-1593038DF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3F7A-03F3-4929-97F7-D25009B01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F0D8-3C26-4FF7-AF04-54A39910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3C9A-915C-44AB-A058-91789DF9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93B2-FA1D-4151-B223-DC08EEB9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3E7E-2582-43DD-B9C9-A8DF3716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33118-C262-4A48-9ECA-62E9D686DC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447EA-E5FC-41ED-9CF0-69F5166C22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400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000000"/>
                </a:solidFill>
                <a:latin typeface="Arial"/>
              </a:rPr>
              <a:t>Комунікативні</a:t>
            </a:r>
            <a:r>
              <a:rPr b="1" i="1" lang="uk-UA" sz="4000" spc="-1" strike="noStrike">
                <a:solidFill>
                  <a:srgbClr val="000000"/>
                </a:solidFill>
                <a:latin typeface="Arial"/>
              </a:rPr>
              <a:t> ознаки культури мови нормативного а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743200" y="4941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Підготувала  студентка ІІІ курс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Юридичного коледж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Василів С. 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Бетховен_-_классика_в_современной_обработке_-_(mp3poisk.net)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5" name="Бетховен_-_классика_в_современной_обработке_-_(mp3poisk.net)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11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6320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6132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800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 Синтаксичні норми - регулюють правила творення й функціонування словосполучень і речень. Поєднання речень у складному синтаксичному цілому (статті законів, кодексів тощо) також здійснюється за законами синтаксичної побудови цієї одиниці: смислового зв'язку і синтаксичної організації (порядку слідування частин статті, засобів їх зв'язку, інтонаційного оформлення тощо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stevejobs"/>
          <p:cNvPicPr/>
          <p:nvPr/>
        </p:nvPicPr>
        <p:blipFill>
          <a:blip r:embed="rId1"/>
          <a:stretch/>
        </p:blipFill>
        <p:spPr>
          <a:xfrm>
            <a:off x="6443640" y="189000"/>
            <a:ext cx="2292480" cy="1780920"/>
          </a:xfrm>
          <a:prstGeom prst="rect">
            <a:avLst/>
          </a:prstGeom>
          <a:ln w="0">
            <a:noFill/>
          </a:ln>
        </p:spPr>
      </p:pic>
    </p:spTree>
  </p:cSld>
  <p:transition spd="med" advTm="11000">
    <p:dissolv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же, правильність мови нормативного акта - це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відповідність мови законів законам мови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недопущення стильового дисонансу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доречність і обгрунтованість застосування норм з іншого стилю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) використання варіантів норми з метою увиразнення, уточнення контексту для надання вичерпної інформації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) дотримання корекції побудови одиниць складного синтаксичного ціло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orator (1)"/>
          <p:cNvPicPr/>
          <p:nvPr/>
        </p:nvPicPr>
        <p:blipFill>
          <a:blip r:embed="rId1"/>
          <a:stretch/>
        </p:blipFill>
        <p:spPr>
          <a:xfrm>
            <a:off x="6156360" y="4005360"/>
            <a:ext cx="2282760" cy="2693880"/>
          </a:xfrm>
          <a:prstGeom prst="rect">
            <a:avLst/>
          </a:prstGeom>
          <a:ln w="0">
            <a:noFill/>
          </a:ln>
        </p:spPr>
      </p:pic>
    </p:spTree>
  </p:cSld>
  <p:transition spd="med" advTm="11000">
    <p:dissolv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ультура мови як соціолінгвістична, етнопсихолінгвистична  дисципліна залежить 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ід 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овної політики,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успільних функцій мови, поширення престижу літературної мови через освіту, театр, видавничу діяльність, засоби масової інформації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Lips"/>
          <p:cNvPicPr/>
          <p:nvPr/>
        </p:nvPicPr>
        <p:blipFill>
          <a:blip r:embed="rId1"/>
          <a:stretch/>
        </p:blipFill>
        <p:spPr>
          <a:xfrm>
            <a:off x="4716360" y="4221000"/>
            <a:ext cx="4084920" cy="2514600"/>
          </a:xfrm>
          <a:prstGeom prst="rect">
            <a:avLst/>
          </a:prstGeom>
          <a:ln w="0">
            <a:noFill/>
          </a:ln>
        </p:spPr>
      </p:pic>
    </p:spTree>
  </p:cSld>
  <p:transition spd="med" advTm="11000">
    <p:dissolv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7200720" cy="1143000"/>
          </a:xfrm>
          <a:prstGeom prst="rect">
            <a:avLst/>
          </a:prstGeom>
          <a:solidFill>
            <a:srgbClr val="e7f3ce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вага громадськості до культури мови визначається загальним  рівнем розвитку народної культур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12547240416yl6tM"/>
          <p:cNvPicPr/>
          <p:nvPr/>
        </p:nvPicPr>
        <p:blipFill>
          <a:blip r:embed="rId1"/>
          <a:stretch/>
        </p:blipFill>
        <p:spPr>
          <a:xfrm>
            <a:off x="2340000" y="2852640"/>
            <a:ext cx="5079960" cy="3810240"/>
          </a:xfrm>
          <a:prstGeom prst="rect">
            <a:avLst/>
          </a:prstGeom>
          <a:ln w="0">
            <a:noFill/>
          </a:ln>
        </p:spPr>
      </p:pic>
    </p:spTree>
  </p:cSld>
  <p:transition spd="med" advTm="11000">
    <p:dissolv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0" spc="-1" strike="noStrike">
                <a:solidFill>
                  <a:srgbClr val="000000"/>
                </a:solidFill>
                <a:latin typeface="Arial"/>
              </a:rPr>
              <a:t>Дякую за увагу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YWWWfyYbGr4"/>
          <p:cNvPicPr/>
          <p:nvPr/>
        </p:nvPicPr>
        <p:blipFill>
          <a:blip r:embed="rId1"/>
          <a:stretch/>
        </p:blipFill>
        <p:spPr>
          <a:xfrm>
            <a:off x="762120" y="2997360"/>
            <a:ext cx="7619760" cy="3016080"/>
          </a:xfrm>
          <a:prstGeom prst="rect">
            <a:avLst/>
          </a:prstGeom>
          <a:ln w="0">
            <a:noFill/>
          </a:ln>
        </p:spPr>
      </p:pic>
    </p:spTree>
  </p:cSld>
  <p:transition spd="med" advTm="11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УЛЬТУРА МОВИ 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— дотримання усталених мовних норм усної і писемної літературної мови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авильність - одна з визначальних ознак культури мови юридичного документа. Словник української мови (Т. VII. - С. 503) тлумачить слово правильний як такий, що: 1) відповідає дійсності; 2) відповідає встановленим правилам, нормам; 3) безпомилков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 rot="21124200">
            <a:off x="1979280" y="5516640"/>
            <a:ext cx="604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FVUePyg_aJ8"/>
          <p:cNvPicPr/>
          <p:nvPr/>
        </p:nvPicPr>
        <p:blipFill>
          <a:blip r:embed="rId1"/>
          <a:stretch/>
        </p:blipFill>
        <p:spPr>
          <a:xfrm>
            <a:off x="3348000" y="3860640"/>
            <a:ext cx="5572080" cy="2737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11000">
    <p:dissolv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овні норми - сукупність мовних засобів, що відповідають системі мови й </a:t>
            </a:r>
            <a:br>
              <a:rPr sz="1600"/>
            </a:b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приймаються її носіями як зразок суспільного спілкування у певний період розвитку мови і суспільства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81999747"/>
          <p:cNvPicPr/>
          <p:nvPr/>
        </p:nvPicPr>
        <p:blipFill>
          <a:blip r:embed="rId1"/>
          <a:stretch/>
        </p:blipFill>
        <p:spPr>
          <a:xfrm>
            <a:off x="6443640" y="4819680"/>
            <a:ext cx="2700360" cy="2038320"/>
          </a:xfrm>
          <a:prstGeom prst="rect">
            <a:avLst/>
          </a:prstGeom>
          <a:ln w="0">
            <a:noFill/>
          </a:ln>
        </p:spPr>
      </p:pic>
    </p:spTree>
  </p:cSld>
  <p:transition spd="med" advTm="11000">
    <p:dissolv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Щоб нормативний акт мав правильне мовне оформлення, треба першою чергою добре знати структуру мови, бо саме нею зумовлюються чинні норми. Але правильне - ще не означає досконале. Досконалий законотворець повинен уміти відібрати у відповідній комунікативній ситуації (для кожного конкретного нормативного акта) найбільш точний, стилістично доречний, експресивно виправданий, естетично виразний варіант літературної мови. Таке уміння і становить мовну майстерність. Фундаментом мовної майстерності законотворця є знання норм літературної мови, у якій синтезуються культурні надбання народу, здобутки юридичної практики минулого, традиції та нові явища функціональних стилів. Розрізняємо такі типи нор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IMG_6980"/>
          <p:cNvPicPr/>
          <p:nvPr/>
        </p:nvPicPr>
        <p:blipFill>
          <a:blip r:embed="rId1"/>
          <a:stretch/>
        </p:blipFill>
        <p:spPr>
          <a:xfrm>
            <a:off x="4643280" y="3933720"/>
            <a:ext cx="4032360" cy="2687760"/>
          </a:xfrm>
          <a:prstGeom prst="rect">
            <a:avLst/>
          </a:prstGeom>
          <a:ln w="0">
            <a:noFill/>
          </a:ln>
        </p:spPr>
      </p:pic>
    </p:spTree>
  </p:cSld>
  <p:transition spd="med" advTm="11000">
    <p:dissolv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рфоепічні норм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сукупність вимовних норм літературної мови, що охоплюють правила: а) вимови звуків: напр., хабара (неправ, хабаря), соціальна допомога (неправ, соціальна допомога); б) наголошування сл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23035"/>
          <p:cNvPicPr/>
          <p:nvPr/>
        </p:nvPicPr>
        <p:blipFill>
          <a:blip r:embed="rId1"/>
          <a:stretch/>
        </p:blipFill>
        <p:spPr>
          <a:xfrm>
            <a:off x="4211640" y="3141720"/>
            <a:ext cx="4640400" cy="3479760"/>
          </a:xfrm>
          <a:prstGeom prst="rect">
            <a:avLst/>
          </a:prstGeom>
          <a:ln w="0">
            <a:noFill/>
          </a:ln>
        </p:spPr>
      </p:pic>
    </p:spTree>
  </p:cSld>
  <p:transition spd="med" advTm="11000">
    <p:dissolv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ексичні норм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регулюють вибір слова відповідно до змісту і мети висловлення. Добираючи слово, враховуємо: а) відповідність слова нормам літературної мови; б) умотивованість слова відповідно до комунікативного завдання; в) місце слова у словниковому запасі мови: активний словник - лексика, що активно вживається в мові протягом значного історичного пері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cocco_mo2009"/>
          <p:cNvPicPr/>
          <p:nvPr/>
        </p:nvPicPr>
        <p:blipFill>
          <a:blip r:embed="rId1"/>
          <a:stretch/>
        </p:blipFill>
        <p:spPr>
          <a:xfrm>
            <a:off x="6556320" y="3933720"/>
            <a:ext cx="2587680" cy="2924280"/>
          </a:xfrm>
          <a:prstGeom prst="rect">
            <a:avLst/>
          </a:prstGeom>
          <a:ln w="0">
            <a:noFill/>
          </a:ln>
        </p:spPr>
      </p:pic>
    </p:spTree>
  </p:cSld>
  <p:transition spd="med" advTm="11000">
    <p:dissolv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тилістичні норм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регулюють вибір слова відповідно до мети висловлювання. 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лежно від того, яка мовна функція реалізується, розрізняємо офіційно-діловий, науковий, публіцистичний, художній, розмовно-побутовий, конфесійний стилі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x_5daf407a"/>
          <p:cNvPicPr/>
          <p:nvPr/>
        </p:nvPicPr>
        <p:blipFill>
          <a:blip r:embed="rId1"/>
          <a:stretch/>
        </p:blipFill>
        <p:spPr>
          <a:xfrm>
            <a:off x="5956200" y="3618000"/>
            <a:ext cx="3187800" cy="3240000"/>
          </a:xfrm>
          <a:prstGeom prst="rect">
            <a:avLst/>
          </a:prstGeom>
          <a:ln w="0">
            <a:noFill/>
          </a:ln>
        </p:spPr>
      </p:pic>
    </p:spTree>
  </p:cSld>
  <p:transition spd="med" advTm="11000">
    <p:dissolv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1268280"/>
            <a:ext cx="83008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ловотвірні норм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регулюють вибір морфем, їх розташування і сполучення у складі нового слова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Костюм"/>
          <p:cNvPicPr/>
          <p:nvPr/>
        </p:nvPicPr>
        <p:blipFill>
          <a:blip r:embed="rId1"/>
          <a:stretch/>
        </p:blipFill>
        <p:spPr>
          <a:xfrm>
            <a:off x="4716360" y="3933720"/>
            <a:ext cx="2476440" cy="2781360"/>
          </a:xfrm>
          <a:prstGeom prst="rect">
            <a:avLst/>
          </a:prstGeom>
          <a:ln w="0">
            <a:noFill/>
          </a:ln>
        </p:spPr>
      </p:pic>
    </p:spTree>
  </p:cSld>
  <p:transition spd="med" advTm="11000">
    <p:dissolv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5. Морфологічні норми - регулюють вибір варіантів морфологічної форми слова і варіантів її поєднання з іншими словами. Наприклад, родовий відмінок множини передбачає форму статей (неправ. статтів) у давальному відмінку однини передбачено обидві форми: директору/директорові, ректору/ректорові, керівнику/керівникові - усе залежить від дотримання норм милозвучності мов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RidQroedDeA"/>
          <p:cNvPicPr/>
          <p:nvPr/>
        </p:nvPicPr>
        <p:blipFill>
          <a:blip r:embed="rId1"/>
          <a:stretch/>
        </p:blipFill>
        <p:spPr>
          <a:xfrm>
            <a:off x="4284720" y="4221000"/>
            <a:ext cx="4680000" cy="2241720"/>
          </a:xfrm>
          <a:prstGeom prst="rect">
            <a:avLst/>
          </a:prstGeom>
          <a:ln w="0">
            <a:noFill/>
          </a:ln>
        </p:spPr>
      </p:pic>
    </p:spTree>
  </p:cSld>
  <p:transition spd="med" advTm="11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5T15:42:47Z</dcterms:created>
  <dc:creator>Olga</dc:creator>
  <dc:description/>
  <dc:language>en-US</dc:language>
  <cp:lastModifiedBy>Ксюха</cp:lastModifiedBy>
  <dcterms:modified xsi:type="dcterms:W3CDTF">2013-05-21T21:14:20Z</dcterms:modified>
  <cp:revision>18</cp:revision>
  <dc:subject/>
  <dc:title>Культура мови</dc:title>
</cp:coreProperties>
</file>