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A2F-C39C-4735-8846-1CE52DFC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B64-3850-43A7-8F9A-41623523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45A-933F-4A35-B84F-829CB7BB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B68-2CB4-404D-95D7-819CCFF5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2EB-DDB4-413B-B7F8-A56EAACE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496-DF2E-4DD1-AD4E-A0B289AE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FFC4-2CD5-4D2A-B9F4-8D5F655A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092-ED02-4FD0-AD33-3D7CCC22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0F1-DF9D-446A-BFD9-7646C106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558-731B-4F58-AEFE-24AB32AD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2D7-97E0-49FB-AA2F-4EE62749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0FB-A931-4593-95E5-290B64C3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C894-B2DE-4CA1-9A08-FDCC39789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976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86400" y="647712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pyright © 2005 – 2006 MES-Englis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8080" y="91440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ther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33526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4191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rand- 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95280" y="4419720"/>
            <a:ext cx="266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rand- f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133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55627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randfather and grand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362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57913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ther and Daug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1108" b="0"/>
          <a:stretch/>
        </p:blipFill>
        <p:spPr>
          <a:xfrm>
            <a:off x="411120" y="504720"/>
            <a:ext cx="8228160" cy="5846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876920" y="990720"/>
            <a:ext cx="335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ther and 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914400"/>
            <a:ext cx="2666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ther and Daug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91440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ther and 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1281" b="0"/>
          <a:stretch/>
        </p:blipFill>
        <p:spPr>
          <a:xfrm>
            <a:off x="411120" y="504720"/>
            <a:ext cx="8213760" cy="5846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52880" y="83808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1030" b="0"/>
          <a:stretch/>
        </p:blipFill>
        <p:spPr>
          <a:xfrm>
            <a:off x="411120" y="504720"/>
            <a:ext cx="8234280" cy="584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35053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13716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22096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ug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2743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1203" b="0"/>
          <a:stretch/>
        </p:blipFill>
        <p:spPr>
          <a:xfrm>
            <a:off x="411120" y="504720"/>
            <a:ext cx="8220240" cy="5846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47242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r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9144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1354" b="0"/>
          <a:stretch/>
        </p:blipFill>
        <p:spPr>
          <a:xfrm>
            <a:off x="411120" y="504720"/>
            <a:ext cx="8207280" cy="584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90720" y="7621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rother and S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4:41:07Z</dcterms:created>
  <dc:creator>User</dc:creator>
  <dc:description/>
  <dc:language>en-US</dc:language>
  <cp:lastModifiedBy>a</cp:lastModifiedBy>
  <dcterms:modified xsi:type="dcterms:W3CDTF">2006-09-12T21:54:05Z</dcterms:modified>
  <cp:revision>4</cp:revision>
  <dc:subject/>
  <dc:title>Slide 1</dc:title>
</cp:coreProperties>
</file>