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A485-1177-40C7-AEA1-70BDAB0E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A25-5993-459D-9379-A96E816E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D7B-12E4-4DF8-80A6-999BF28C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059-17FD-4D05-A05B-8190539E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6629-E00D-4899-B754-D077BE59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F115-A565-4919-9507-63D7E36A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887A-22CF-4CD2-8438-B74ADC02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C0D0-E2E6-44AA-AA8C-64B0B3D1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86CA-8B84-4BD4-BD2A-35A7E101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BFC3-4F23-480F-AFA3-85795093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B01E-541F-46B4-A8BC-4A21DD60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63E-BBFD-4204-AAEA-297B1CD7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6725-5445-4F23-B388-99817E48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E871-8A92-449E-8D51-810855AB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BFD0-1064-4FA3-A101-1A0F5F14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B07F-23E5-4BD8-A41A-9B3B3F63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83ED-21C7-4747-9C25-1D1FDBCD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938-B8FD-4B24-B477-3C8AE891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761-062B-4735-A8CC-21817303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793-B1C5-4403-816A-19D684B0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BF6-E53A-4A85-9B43-9E6DB932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006-4BAA-47CA-A071-529235CF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2D4-BCB0-40B3-8F39-D6EE7E29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609-912B-4D70-8C91-8E2D082A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BB42-6F24-4F60-9CA6-4C853A09C7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48BC-AE2A-41D0-9F05-A56A7A31F6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D1AB-5C9C-445F-A939-5F04220826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77040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uk-UA" sz="4800" spc="-1" strike="noStrike">
                <a:solidFill>
                  <a:srgbClr val="221304"/>
                </a:solidFill>
                <a:latin typeface="Times New Roman"/>
              </a:rPr>
              <a:t>Міжнародний досвід застосування медіації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59F2-24A4-4840-9AF1-6DD3E3FD4B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400"/>
            </a:b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медіації в Англії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Медіація щодо неповнолітні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дним із різновидів офіційної реакці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ержави на злочин, вчинений неповнолітнім, 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аказ про передачу справи, що реалізовує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ліцією. Такий захід застосовується до осіб, щ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перше вчинили злочин і за умови, що ц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лочин невеликої тяжкості. Він обов'язковий д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рушн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BF56-29CB-4458-A50A-A0464E44E8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400"/>
            </a:b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медіації в Англії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о неповнолітніх, які повторно вчин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лочин, за рішенням суду може бу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стосовано такі заходи як наказ п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ідшкодування шкоди, наказ про план ді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аказ про нагляд, що можуть передбача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часть у медіації. Успішна медіація мож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глядатись як підстава для пом’якш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карання неповнолітній особі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0F54-B204-43CE-A5B9-5869989016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400"/>
            </a:b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медіації в Польщі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оцес зародження віднов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авосуддя у Польщі, в сучасному й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озумінні і формах, розпочався з 1994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льща почала переймати відповід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освід у Німеччини. У 1995 р. створе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омітет з впровадження медіації, який 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000 р. було реформовано у Польсь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центр медіації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B5ED-E617-4BAE-A53F-80F67D3EDE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400"/>
            </a:b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медіації в Польщі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0 січня 2003р. було реформовано нор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римінально-процесуального кодексу, щ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тосувались медіації, шляхом й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оповнення статтею 23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7115-08DC-425A-B575-BB88F48C50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400"/>
            </a:b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медіації в Польщі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таття 23а КПК Польщі передбачає, що суд, 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ід час попереднього слідства прокурор, 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ніціативи або за згодою потерпілого аб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бвинуваченого, може направити справу д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станови або гідної довіри особи з мето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ведення процедури медіації між потерпілим 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бвинувачени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5799-5141-494E-9370-F0FA8536CF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400"/>
            </a:b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медіації в Польщі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§ 2 статті 325і КПК у редакції 2003 року нада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аво направляти кримінальну справу 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едіацію органу, що проводить дізнан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Таку функцію у Польщі виконує поліці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тже, прийняття  рішення про провед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едіації належить до компетенції поліції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куратури та суд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1B70-AF5B-4553-8E76-98E856FD12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000"/>
            </a:br>
            <a:r>
              <a:rPr b="0" lang="uk-UA" sz="4000" spc="-1" strike="noStrike">
                <a:solidFill>
                  <a:srgbClr val="221304"/>
                </a:solidFill>
                <a:latin typeface="Times New Roman"/>
              </a:rPr>
              <a:t>медіації в Польщі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тро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едіації не повинна тривати довше, ніж од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ісяць. Проте цей термін не враховується в ча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переднього слідства. В загальному термі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переднього (досудового) розслідування 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винен тривати більше двох місяців, окрі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падків його продовження прокурором 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трок до 3 місяці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14F7-DA93-4CFB-8771-CD6B96999A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000"/>
            </a:br>
            <a:r>
              <a:rPr b="0" lang="uk-UA" sz="4000" spc="-1" strike="noStrike">
                <a:solidFill>
                  <a:srgbClr val="221304"/>
                </a:solidFill>
                <a:latin typeface="Times New Roman"/>
              </a:rPr>
              <a:t>медіації в Польщі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 основному, на медіацію спрямовую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римінальні справи у випадку вчин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лочинів проти здоров’я особи (тілесн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шкодження, насильницькі дії, погрози) 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айнових злочинів (крадіжка, пошкодж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айна). Рішення про спрямування конкретн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римінальної справи на процедуру медіаці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иймається на власний розсуд уповноважено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собо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5111-A552-42FA-883B-70C0F23C65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000"/>
            </a:br>
            <a:r>
              <a:rPr b="0" lang="uk-UA" sz="4000" spc="-1" strike="noStrike">
                <a:solidFill>
                  <a:srgbClr val="221304"/>
                </a:solidFill>
                <a:latin typeface="Times New Roman"/>
              </a:rPr>
              <a:t>медіації в Польщі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имоги до особи медіатор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має польське громадянство; 2) не обмежена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ористуванні правами людини й громадяни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) досягла 26 років; 4) вільно володіє польською мово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5) не має судимості за умисний злочин; 6) володі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мінням усунення конфліктів та посідає всі знанн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обхідні для проведення процедури медіації, зокрема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фері психології, педагогіки, соціології, ресоціалізаці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бо юриспруденції; 7) дає запоруку належ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конання обов‘язків; 8) внесена до реєстр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4FE4-363B-4281-920E-4CD0999C7B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000"/>
            </a:br>
            <a:r>
              <a:rPr b="0" lang="uk-UA" sz="4000" spc="-1" strike="noStrike">
                <a:solidFill>
                  <a:srgbClr val="221304"/>
                </a:solidFill>
                <a:latin typeface="Times New Roman"/>
              </a:rPr>
              <a:t>медіації в Польщі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оцедура полягає 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алагодженні контакту з потерпілим 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ідозрюваним або обвинуваченим, визнач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терміну і місця зустрічі з кожним з них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проведення індивідуальних зустріч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 ними, де повідомляється про суть і принцип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цедури медіації, роз’яснюються їх прав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8030-E770-46A9-A0E0-DC41F3038C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400"/>
            </a:b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медіації в Англії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620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оняття медіаці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. Райт: медіація була запозичена англійцями наприкінці 70-х і на початку 80-х років у США, Канаді, Австралії. Перші проекти з впровадження медіації в Англії були у містах Ковентрі та Вулверхемптоні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E51A-21BD-492F-8555-990886BB6C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000"/>
            </a:br>
            <a:r>
              <a:rPr b="0" lang="uk-UA" sz="4000" spc="-1" strike="noStrike">
                <a:solidFill>
                  <a:srgbClr val="221304"/>
                </a:solidFill>
                <a:latin typeface="Times New Roman"/>
              </a:rPr>
              <a:t>медіації в Польщі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3) проведенні медіації за участю підозрюва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бо обвинуваченого і потерпілого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4) допомозі у формулюванні змісту угоди 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езультатами медіації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5) перевірці виконання взятих зобов’язань, щ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ули закріплені в угоді між підозрюваним аб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бвинуваченим і потерпіл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B21F-63EB-42B4-AEED-5B6F4B0DF5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000"/>
            </a:br>
            <a:r>
              <a:rPr b="0" lang="uk-UA" sz="4000" spc="-1" strike="noStrike">
                <a:solidFill>
                  <a:srgbClr val="221304"/>
                </a:solidFill>
                <a:latin typeface="Times New Roman"/>
              </a:rPr>
              <a:t>медіації в Польщі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аслід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закриття кримінальної справ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припинення провадження у справі і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стосуванням умовного звільнення ві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каранн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) закріплення у вироку суду умов, встановлених мі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торонами під час медіації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) прийняття обвинувального вироку без проведе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вноцінного судового розгляду за так звано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короченою процедурою за поданням обвинуваче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 погодженням з прокурор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1E55-5831-4C47-995E-F07E39767F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400"/>
            </a:b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медіації в Англії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628640"/>
            <a:ext cx="76201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йпоширенішою формою віднов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авосуддя в Англії є медіаці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зважаючи на майже двадцятилітн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сторію відновного правосуддя у ці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раїні, даний інститут не було закріпле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 нормативному рівні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CC48-D1DE-448A-B5A5-6FB7C204A0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400"/>
            </a:b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медіації в Англії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ерші законами, що закріпи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едіацію на національному рівн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кт «Про злочини і безпорядки» 1998р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кт «Про правосуддя у справ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повнолітніх та свідчення у карн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правах» 1999 р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 Акт «Про повноваження кримінальн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удів при призначенні покарання» 2000 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4327-EAAB-4769-8495-3EDAAF5348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400"/>
            </a:b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медіації в Англії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арактерною рисою англійської медіації 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те, що вона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оже бути застосована 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удь якій стаді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кримінального процес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опускається проведення медіації наві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ісля винесення вироку як спосі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офілактики повторного вчине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лочині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5771-6712-4288-90E2-BB7034306E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400"/>
            </a:b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медіації в Англії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Класифікація медіації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досудова (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ніціюється поліцією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) 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удова (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ніціюється за рішенням суду)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D965-7814-49D3-918B-E778AE4E95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400"/>
            </a:b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медіації в Англії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итерії, на основі яких поліція мож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прямувати кримінальну справу на медіацію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) вид і тяжкість злочину; 2) наявні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ублічного інтересу у кримінально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ереслідуванні; 3) наявність достатнь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оказової бази для визнання особи винною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якщо справа буде розглядатися суд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4) визнання правопорушником всіх обстав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прави, в тому числі власної вин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5) потреба потерпілого у медіаці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BDA0-527A-41BD-91BA-44D7558D3D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400"/>
            </a:b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медіації в Англії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аслідки успішної досудової медіації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провадження у кримінальній справ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оже бути закрит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може застосовуватись «попередження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4DF2-0A81-4D7D-87B8-D20A81B997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Досвід застосування </a:t>
            </a:r>
            <a:br>
              <a:rPr sz="4400"/>
            </a:br>
            <a:r>
              <a:rPr b="0" lang="uk-UA" sz="4400" spc="-1" strike="noStrike">
                <a:solidFill>
                  <a:srgbClr val="221304"/>
                </a:solidFill>
                <a:latin typeface="Times New Roman"/>
              </a:rPr>
              <a:t>медіації в Англії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удова медіація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 застосовується у всіх категоріях спра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 судова медіація тісно пов’язана з тако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нглійською процесуальною особливіст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к можливість відкладення су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оголошення остаточного вироку 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изначення покарання після того, я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собу визнано винною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20:15:07Z</dcterms:created>
  <dc:creator>mukutun</dc:creator>
  <dc:description/>
  <dc:language>en-US</dc:language>
  <cp:lastModifiedBy>mukutun</cp:lastModifiedBy>
  <dcterms:modified xsi:type="dcterms:W3CDTF">2014-11-14T08:41:56Z</dcterms:modified>
  <cp:revision>86</cp:revision>
  <dc:subject/>
  <dc:title>Злочини  проти правосуддя. Частина 2.</dc:title>
</cp:coreProperties>
</file>