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845-AE76-4EB6-BCA2-73CE06A0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12D-228B-40B3-B2CF-8DA0424C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919-8564-47E6-81E5-88620903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1B5-B1E8-42DC-8193-4A6D92DD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A44-F71B-4DFD-8DEA-78D21BBE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AAF5-4016-42D7-8BF1-E47B2565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0AC1-461C-4AA0-A2BE-E87B1EC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7DC0-14A9-4F40-B9FD-06CBABF1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5C3F-F8AF-446A-870C-D0A6026B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D08-9FB1-4AF1-8683-C559A26F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E93-E2E1-4155-81E6-C710FB8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884-E249-4355-8C5A-EB8B9939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874A-3F87-43C0-AAAD-F996CD0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6597-5F0D-457E-92DE-F0461A1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EAE1-B931-4780-A320-674D9570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A173-E267-419B-B10D-2795C346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007B-B80E-47A8-97C4-9FA579E6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D25-AA74-4998-9CD5-1F6DC783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50B-2ECA-4599-A396-DA40158C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FA4-4114-41EF-BE56-A8C9D705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D15-76F4-4FE5-823F-B0A37F38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E9F-EDF2-48A0-935A-C7FB4B0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631-7311-415F-9D6E-738B779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DC8-05F2-4497-8468-16CE365E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D5B-112A-4CE3-A470-A43A50A6A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6F4A-B4A0-417F-9FEC-B91EA523B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0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21304"/>
                </a:solidFill>
                <a:latin typeface="Times New Roman"/>
              </a:rPr>
              <a:t>Цю публікацію здійснено за підтримки американського народу, наданої через Агентство США з міжнародного розвитку (USAID) в рамках Проекту «Справедливе правосуддя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770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оняття, принципи, етапи медіації, сфери її застосування. Нормативна регламентаці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087640" cy="1150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309564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EAF0-4B59-4F3E-B3AC-99BA523DE2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ормативна регламентаці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(основа застосування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діа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мінально-право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ст. 46 КК (звільнення від кримінальн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повідальності у зв’язку з примиренн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нного з потерпілим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ч.1 ст. 66  (щире каяття або активне сприя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криттю злочину, добровільне відшкод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вданого збитку або усунення заподіян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шкоди є обставинами, що пом’якшую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повідальність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FCA-2C62-4F89-8633-C94D2CD06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мінально-право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) ч.1 ст. 75 КК (можливість прийняття ріш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 звільнення від відбування покарання 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пробуванням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) ч.1 ст. 97 КК (неповнолітнього, який впер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чинив злочин невеликої тяжкості, може бу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вільнено від кримінальної відповідальності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що його виправлення можливе б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тосування покарання, але і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користанням примусових заходів вихов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характер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FF5-9183-4B9C-A9F4-AEE5FB297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мінально-право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) ч.1 ст. 105 КК України (неповнолітній, я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чинив злочин невеликої або середнь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яжкості, може бути звільнений судом ві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карання, якщо буде визнано, щ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наслідок щирого розкаяння та подальш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ездоганної поведінки він на мо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тановлення вироку не потребує застос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каранн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B3A-292F-4C1C-876C-7402AD80B9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мінально-процесуаль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глава 35 КПК «Кримінальне провадження 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ставі угод» (інститут угоди про примирен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глава 36 КПК  «Кримінальне провадження 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формі приватного обвинуваченн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65B-4FB6-4A82-893B-09380086A7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кти вищих органів судової влад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танова ПВС Україн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 практику застосування суд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и законодавства у справах про злочи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повнолітніх” від 16.04.2004 р.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“Про практику застосування суд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конодавства, яким передбачені 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терпілих від злочинів” від 2.07.2004 р.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Лист ВСС “Про деякі питання здійснення к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вадження на підставі угод” в редак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05.04.2013р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2E1-033C-4A95-847C-1BBAA9066B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ивільно-процесуаль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ст. 31,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17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205 ЦПК (інститут миров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год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ст.201 ЦПК (зупинення провадження 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мирення у справах про розірвання шлюбу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E82-3A12-4C0F-B34F-841F32F6D3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оняття медіа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діація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засудова 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регулювання конфлікту шлях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реговорів за допомогою одного аб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кількох посередників (медіаторі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проект ЗУ “Про медіацію”, ста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 04.03.2014р. вручено для розгляд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родними депутатам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823-5D7E-4B33-8530-6F021EA220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діація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кримінальних справах (Рек.КМ Р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вропи № R (99) 19 від 15 вересня 1999 р. "П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діацію у кримінальних справах") – 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гнучкий, всеохоплюючий, орієнт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 пошук рішення процес, який є додатков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бо альтернативним способом виріш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их справ у системі традицій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дочинства, і спрямований на врах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тересів і залучення зацікавлених осіб 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цес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92E-2712-47AF-8117-2D5A5A14D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визнання законних інтересів потерпілого, як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никли внаслідок злочин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іалог потерпілого з правопорушником з мето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відшкодування моральних та матеріаль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иткі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розвиток почуття відповідальності 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вопорушника та надання йому можливост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виправле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вищення ролі окремої особистості 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ромади у попередженні злочинів та конфлікт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6CA-9335-4A7D-8760-C4BED2278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діаці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у цивільних справа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Рек.КМ Р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вропи № R (2002) 10 від 18 верес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2 р. "Про медіацію у цивільн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равах")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цес врегулювання спорів, 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жах якого сторони з допомогою одного 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ількох медіаторів провод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еговори що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ірних питань з метою досягти домовленост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1DA-09B0-4EA3-B6F8-4F794C205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вданнями медіа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врегулювання конфлікту шляхом досягн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його сторонами взаємоприйнятного ріше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усунення шкоди, завданої конфлік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) якомога повне задоволення потреб сторі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нфлікт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) зниження рівня конфліктності сторін 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побігання поновленню конфлікт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) відновлення правопорядку та злагоди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спільств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107-F72B-40C2-B0C2-16403194A1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фера застосування медіа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3000" spc="-1" strike="noStrike" u="sng">
                <a:solidFill>
                  <a:srgbClr val="000000"/>
                </a:solidFill>
                <a:uFillTx/>
                <a:latin typeface="Times New Roman"/>
              </a:rPr>
              <a:t>цивільні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, господарські, адміністративні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трудові, сімейні спор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прави з приводу адміністративних правопорушен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00"/>
                </a:solidFill>
                <a:uFillTx/>
                <a:latin typeface="Times New Roman"/>
              </a:rPr>
              <a:t>кримінальні провадження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1C0-965C-4876-8CC8-ADF2E4FD40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нципи медіа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добровільніст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нфіденційніст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івність сторін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активніст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незалежність медіатор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нейтральність медіатор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толерантність медіатор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54E-C473-4B55-AAE2-FAF082804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21304"/>
                </a:solidFill>
                <a:latin typeface="Times New Roman"/>
              </a:rPr>
              <a:t>Медіація, як альтернативний спосіб вирішення спорі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Етапи медіа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ідбір спра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готовка до процедури примирення (премедіація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устріч примирення (вступ; розповідь сторонами свого бачення ситуації; обговорення спричинених збитків та варіантів їх компенсації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писання угоди про примире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моніторинг виконання угод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B79-7B64-4925-8CE5-C75C8B30E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/>
  <dc:description/>
  <dc:language>en-US</dc:language>
  <cp:lastModifiedBy>admin</cp:lastModifiedBy>
  <dcterms:modified xsi:type="dcterms:W3CDTF">2014-09-23T20:48:17Z</dcterms:modified>
  <cp:revision>54</cp:revision>
  <dc:subject/>
  <dc:title>Злочини  проти правосуддя. Частина 2.</dc:title>
</cp:coreProperties>
</file>