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2E9-65CE-4DAD-A68A-FFBC8486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41A-97C7-420A-977E-2167C6D2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4A8-030A-46A8-9BA6-E0851C89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C50-0F38-4546-AF81-1B0D1C3F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2C84-2713-4EF9-AF27-BC92CD0F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53D5-B29A-4CC7-99F3-9B617DCA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B486-EF0E-4138-A20E-C055D96C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80BB-2745-4396-8230-6050F2E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2E69-26A7-4F7E-BE3E-DD1DC17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57AA-882E-4373-8BAA-19422C2E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0ADC-ECEA-4839-B1B3-6776281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45E-E435-4214-84BC-398EB9F8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9174-A20B-4FD7-9936-10BE99F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E38A-F3C5-4F07-AB6C-38AAE0E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E26B-8244-46F4-A2B9-527CF42C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1BDF-AE00-44D0-B969-2B0993C5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1D99-9758-45D2-8A23-F8BA539A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18F-31CA-478D-B374-8DC42CA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0B5-620E-4B34-8CDB-9E5E274D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1EB-9953-49F3-83DE-B743581E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B0C-4C39-473B-85D2-6787758A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362-9D20-40F0-81F7-9BC80AC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C40-E0CC-4345-81EC-E32CFAB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84A-439C-4628-A1FC-4D62E8A2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88C2-10EB-4505-9FEF-973801B9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F66-4457-4B78-8131-C08A84EF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0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21304"/>
                </a:solidFill>
                <a:latin typeface="Times New Roman"/>
              </a:rPr>
              <a:t>Цю публікацію здійснено за підтримки американського народу, наданої через Агентство США з міжнародного розвитку (USAID) в рамках Проекту «Справедливе правосуддя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770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Досвід застосування медіаці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 Україн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087640" cy="1150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309564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9656-2BC9-4DDA-80A6-0F776DFCB8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новні віх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2003-2004рр. УЦП розпочав реалізаці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лотного проекту “Відновно-соціаль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рансформація”(кр. правова медіація)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гіон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2005-2007 рр. – кількість регіон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більшилась до 12, а до 2011р. станов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 (міста, райони, області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143-6DC3-4F7D-A7C9-A15928A5B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Дослідження УЦП "Відн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авосуддя в Україні: підсумки 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рспективи" (2011р.) у восьми громада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проведено 364 медіації у криміналь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рав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 них 95% справ, в яких злоч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чинялись неповнолітні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B82-CE38-4F64-9352-C3C992B3C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в основному (88%) медіація проводи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випадку вчинення злочинів невелико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44%) і середньої тяжкості (44%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переважно медіація проводилась 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падку вчинення злочинів про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ласності (70%) та проти здоров’я осо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25%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0CA-BF48-46FF-A2E1-4BD1B14E4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- за результатами медіації досяга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домовленості про компенсацію матеріально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і моральної шкоди в межах 1000-1500 грн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(87%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- максимальні розміри відшкодуванн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у розмірі 70 000 грн. та 4 000 євро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4D5-6A74-478C-BCD3-6ECBC1B5FD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астосування медіації у цивільни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правах не узагальнювалась у меж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Україн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Активна учать (на комерційні основі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- Український Центр Медіації пр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иєво-Могилянській Бізнес Школі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- Одеська група медіації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A6F-2802-42EC-BDEE-DBD924E7D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тосування медіації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 адміністратив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рав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ект “Прозорість та ефективність судов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истеми” (Білоцерківський міськрайонний с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иївської області, Вінницький окруж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дміністративний суд, Донецький апеляцій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дміністративний суд, Івано-Франківсь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ський суд (2010-2011р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C29-0DDD-4146-B0FB-3FC34B98E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20:15:07Z</dcterms:created>
  <dc:creator/>
  <dc:description/>
  <dc:language>en-US</dc:language>
  <cp:lastModifiedBy>admin</cp:lastModifiedBy>
  <dcterms:modified xsi:type="dcterms:W3CDTF">2014-09-23T14:49:21Z</dcterms:modified>
  <cp:revision>61</cp:revision>
  <dc:subject/>
  <dc:title>Злочини  проти правосуддя. Частина 2.</dc:title>
</cp:coreProperties>
</file>