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3C6-30CC-4D28-B58D-1C8A23C6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ABE0-1CCF-4850-A4A3-9B63C29A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891-A523-48E0-893A-B9BEDC65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040-117B-4F91-9F0E-ECF5CAE2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65AD-036E-43AF-9D76-F9A09D76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FCDD-7589-4DCF-B284-09FEE3C0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1549-0E2C-4175-B7E3-048CC5F1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490C-4D73-4959-894A-2BDD2D20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8962-7B10-49DE-999D-708CB22B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478D-2A21-420D-8972-1AC4CE25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A7BB-00A0-4D56-A843-769591EA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65B-82BD-474D-B752-33114B5D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4D56-39D7-4301-9388-647B08C1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0AFB-0409-4E9F-8D1F-547E1CEF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10DD-184C-4C2E-9E20-CBC57D1A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3CAA-DE38-4EB8-AEC8-0E96D06F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720B-9025-43CC-A192-992106EF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EB4-F6C7-40E7-96B8-096613F0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94A-EA7F-4AA1-B730-0B39DC9A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8C7-6B3F-4643-A11A-C759012E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97C-E493-4FB2-A49A-503692F1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BF4-EA4E-4E8A-926F-2DE88DDB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09D-AD3B-4A13-8007-E2A4A926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217-9F57-44C5-92C7-F40470E7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8C8E-C415-4118-9808-34C3E0F27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D513-FC09-45DC-B0B6-72FC44421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836640"/>
            <a:ext cx="770400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221304"/>
                </a:solidFill>
                <a:latin typeface="Times New Roman"/>
                <a:ea typeface="Arial"/>
              </a:rPr>
              <a:t>Злочини </a:t>
            </a:r>
            <a:br>
              <a:rPr sz="5400"/>
            </a:br>
            <a:r>
              <a:rPr b="1" lang="uk-UA" sz="5400" spc="-1" strike="noStrike">
                <a:solidFill>
                  <a:srgbClr val="221304"/>
                </a:solidFill>
                <a:latin typeface="Times New Roman"/>
                <a:ea typeface="Arial"/>
              </a:rPr>
              <a:t>проти правосуддя. Частина 2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35736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окремих видів злочинів проти правосудд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4EFB-47EB-4FFC-BA2C-9AFC363A53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r>
              <a:rPr b="1" lang="uk-UA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56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uk-UA" sz="2600" spc="-1" strike="noStrike" u="sng">
                <a:solidFill>
                  <a:srgbClr val="000000"/>
                </a:solidFill>
                <a:uFillTx/>
                <a:latin typeface="Times New Roman"/>
              </a:rPr>
              <a:t>Тримання під вартою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є винятковим запобіжним заходом. Строк тримання під вартою або продовження строку тримання під вартою не може перевищувати 60-и днів. Строк тримання під вартою може бути продовжений слідчим суддею в межах строку досудового розслідування. Сукупний строк тримання під вартою під час досудового розслідування не повинен перевищуват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шести місяців – у кримінальному провадженні щодо злочинів невеликої або середньої тяжкості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2) дванадцяти місяців – у кримінальному провадженні щодо тяжких або особливо тяжких злочині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28B-3F0A-4167-BBD4-39DAD3E8EE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решт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е називається серед видів запобіжних заходів, передбачених ст. 176 КПК. У пункті 4 ч. 1 цієї статті фігурує лише такий запобіжний захід, як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домашній арешт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ст. 181 КПК). Але серед заходів, що забезпечують міжнародне співробітництво під час кримінального провадження вказується на такі їх види, як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екстрадиційний та тимчасовий ареш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488-C01D-4922-BDF4-56D7750FEE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езаконний характер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) відсутність законних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підстав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ля застосування зазначених заході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) порушення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порядку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їх застосування чи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строків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їх здійсне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CD3-8167-422C-8F9A-CBC6029A89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ояв об'єктивної сторон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(залежно від активності поведін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лочин, як правило, вчиняється шляхом активної поведінки -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дії,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те, якщо особа, наприклад, трималася під вартою із законних підстав, але після закінчення встановлених у законі строків (ст. 197 КПК) не звільняєть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-під варти без законних на це підстав, злочинне діяння здійснюється вже шляхом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бездіяльності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7A4-D36C-4010-A7BC-778C7A91CF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омент закінчення злочин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 частинами 1 та 2 ст. 371 КК відповідальність настає за злочин із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формальним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кладом, який визнається закінченим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 часу вчинення хоча б одного з альтернативно перелічених діян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01B7-F362-499C-B177-4C638D89B2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r>
              <a:rPr b="0" lang="uk-UA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уб’єкт злочину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пеціальний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Ним може бути службова особа органу досудового розслідування, слідчий, прокурор, а у випадку завідомо незаконного тримання під вартою – також начальник установи попереднього ув’язненн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удді за дії, передбачені ст. 371, несуть відповідальність за ст. 375, а інші службові особи – за статтями 365 або 42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76D-CF3D-4A08-B25E-CF20E1D637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r>
              <a:rPr b="0" lang="uk-UA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уб’єктивна сторона злочин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ямий умисе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икористання законодавцем слова «завідомість» означає усвідомлення ним суспільної небезпечності незаконного затримання, приводу, арешту та тримання під вартою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AFE-D32C-473A-BB97-A55AA1B35B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r>
              <a:rPr b="0" lang="uk-UA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валіфікуючі ознаки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лочин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(ч. 3 ст. 37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причинення тяжких наслідкі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) вчинення з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орисливих мотивів чи в інших особистих інтерес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DCE-BE5F-4C11-97D1-7338031C18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1304"/>
                </a:solidFill>
                <a:latin typeface="Times New Roman"/>
              </a:rPr>
              <a:t>Притягнення завідом невинного до кримінальної відповідальності (ст. 372)</a:t>
            </a:r>
            <a:r>
              <a:rPr b="0" lang="uk-UA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ертаційна робота на тем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мінально-правова характеристика притягнення завідомо невинного до кримінальної відповідальності”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Микола Іванович Сийплок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5B0-2756-4197-97B8-C3BA4280B9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1304"/>
                </a:solidFill>
                <a:latin typeface="Times New Roman"/>
              </a:rPr>
              <a:t>Притягнення завідом невинного до кримінальної відповідальності (ст. 372)</a:t>
            </a:r>
            <a:r>
              <a:rPr b="0" lang="uk-UA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557360"/>
            <a:ext cx="7608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чні дані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-2008 рр. – 2 обвинувальні вироки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-2012 рр. – 5 обвинувальних вироків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-2008 рр. – порушено 23 кримінальні справи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-2012 рр. – порушено 24 кримінальні справ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B560-52FF-4CF5-9D6A-E648AFA4E6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План лекції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відомо незаконні затримання, привід, арешт або тримання під вартою (ст.37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итягнення завідомо невинного до кримінальної відповідальності (ст. 37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имушування давати показання (ст.37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рушення права на захист (ст.374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5. Постановлення суддею (суддями) завідомо неправосудного вироку, рішення, ухвали або постанови (ст.37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045-9CFC-45BF-A939-2183559BD5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тягнення завідом невинного до кримінальної відповідальності (ст. 372)</a:t>
            </a:r>
            <a:r>
              <a:rPr b="0" lang="uk-UA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557360"/>
            <a:ext cx="7608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спільна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безпечні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лужбові особи, які уповноважені законом на такі дії, як притягнення до кримінальної відповідальності, використовують ці повноваження щодо особи, яка не вчиняла злочину, чим грубо порушують права і свободи цієї особи, породжують у неї та інших осіб відчуття соціальної і правової незахищеності, підривають віру у справедливість і законність правосудд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 своєю юридичною природою цей злочин є спеціальним видом зловживання владою або службовим становищ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954-B6E3-426E-A0EE-B9C7FFAA7D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тягнення завідом невинного до кримінальної відповідальності (ст. 37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15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б’єкт злочину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сновний безпосередній: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успільні відносини у сфері правосуддя з приводу законної діяльності слідчого або прокурора, спрямовані на забезпечення прав і основних свобод людини та громадянин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Додатковий факультативний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вторитет правоохоронних органів тощ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476-CEC5-4B56-B2CB-81A3FF5B35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тягнення завідом невинного до кримінальної відповідальності (ст. 37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пілий -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зична особа,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невинувата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 вчиненні того злочину, що їй інкримінуєть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и цьому це може бути як особа, що взагалі не вчиняла жодний злочин, так і така, що вчинила інший злочин, ніж той, за який її притягують до кримінальної відповідальності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5CF-D941-4DB5-B34C-93FE5B4E36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тягнення завідом невинного до кримінальної відповідальності (ст. 37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’єктивна сторона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лягає у притягненні завідомо невинного до кримінальної відповідальності, яке згідно з п. 14 ч. 1 ст. 3 КПК є стадіє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римінального провадження, що починається з моменту повідомлення особі про підозру у вчиненні кримінального правопорушенн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ідстав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римінально-правов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римінально-процесуаль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829-522F-49E0-9D80-879FD4C30F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тягнення завідом невинного до кримінальної відповідальності (ст. 37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алізація об’єктивної сторона злочин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активна поведінка суб'єкта, що полягає у вчиненні таких 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дій,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як: а) складання письмового повідомлення про підозру; б) вручення цього повідомлення особі, що підозрюється у вчиненні певного кримінального правопорушенн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Формальний склад злочину - ч. 1 ст. 372 КК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Злочин є 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закінченим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з моменту врученн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потерпілому письмового повідомлення про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підозр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944-0F2A-471E-A617-5DE9318345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тягнення завідом невинного до кримінальної відповідальності (ст. 37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уб’єкт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пеціальний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Ним може бути тільки слідчий, прокурор, інша уповноважена службова особа, яка згідно із статтями 276-278 КПК має право здійснювати повідомлення про підозру. У випадку, якщо рішення щодо притягнення особи до кримінальної відповідальності приймав суддя, завідомо усвідомлюючи його незаконний характер, при кваліфікації дій такої особи повинна застосовуватися спеціальна норма – ст. 375 К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B9E-00A4-432D-B017-879E7AE50C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тягнення завідом невинного до кримінальної відповідальності (ст. 37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уб’єктивна сторона злочин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ямий умисе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аявність «завідомості» про невинуватість особ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4AFA-1CC0-4B12-A635-47AB4E545C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тягнення завідом невинного до кримінальної відповідальності (ст. 37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валіфікуючі ознаки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лочин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ч. 2 ст. 37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бвинувачення у вчиненні тяжкого або особливо тяжкого злочин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) штучне створенням доказів обвинувачення або інша фальсифікаці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89F-7E7A-44D6-BF31-ED3A117511B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мушування давати показання (ст.373)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ертаційна робота на тем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мінально-правова характеристика примушування давати показання”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Ольга Олексіївна Ваку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8C5-A576-4620-8CED-8BD0E5E2AE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мушування давати показання (ст.373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4660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чні дані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-2009 рр. – порушено 11 кримінальних спра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-2012 рр. – порушено 7 кримінальних спра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 75% працівників органів юстиції, адвокатури, громадян вказали, що їм відомі відповідні фак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ок: великий відсоток латентност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5F1-3BC7-40BB-A1A6-55E5562D84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ертаційна робота на тем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мінально-правова характеристика завідомо незаконних затримання, приводу, арешту та тримання під вартою”, 2008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Руслан Іванович Мель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C60-24EA-43AA-87E2-6B22B18B63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мушування давати показання (ст.373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41264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’єкт злочину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Основний безпосередній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суспільні відносини у сфері правосуддя з приводу законної діяльності осіб, які проводять досудове розслідування, спрямовані на забезпечення прав учасників кримінального провадження під час отримання показань відповідно до КПК Украї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одатковий факультативний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суспільні відносини у сфері охорони життя, здоров’я, волі, особистої недоторканності, честі й гідності людини, права власності, авторитет правоохоронних органів тощ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A28-9572-40C1-86C6-213CFDB29A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мушування давати показання (ст.373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пілий -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соба, яка згідно з КПК може давати показання при допиті під час досудового розслідуванн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підозрюван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свідо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потерпілий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експерт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526-3148-4814-A578-FD94B26DCEE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мушування давати показання (ст.373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70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б’єктивна сторона злочину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характеризується активною поведінкою –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діями,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які здійснюютьс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у такий спосіб, як примушуванн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у певній обстановці (при допиті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незаконно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г) для отримання від особи показан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лочин з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формальним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кладом, який визнається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закінченим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з моменту вчинення примусу давати показанн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E2E-284A-4A3F-9744-D9ABB10974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мушування давати показання </a:t>
            </a:r>
            <a:br>
              <a:rPr sz="3200"/>
            </a:b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(ст. 373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6201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уб’єкт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пеціальний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слідчий, прокурор, тобто така уповноважена службова особа, яка за законом має право здійснювати досудове розслідування або тимчасово призначена виконувати ці функції в установленому законом порядку. Якщо примушування до давання показань здійснюється суддею під час допиту у судовому провадженні, вчинене слід кваліфікувати за ст. 365 КК, а якщо воно здійснюється з метою створення умов для постановлення неправосудного судового акта, вчинене кваліфікується за ст. 365, ч. 1 ст. 14 та ст. 375 К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AA3-2D66-437D-A1C7-19491A5B92C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мушування давати показання </a:t>
            </a:r>
            <a:br>
              <a:rPr sz="3200"/>
            </a:b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(ст. 373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уб’єктивна сторона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ямий умисе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0645-8198-43AD-9EF2-E18E7BE42B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21304"/>
                </a:solidFill>
                <a:latin typeface="Times New Roman"/>
              </a:rPr>
              <a:t>Примушування давати показання </a:t>
            </a:r>
            <a:br>
              <a:rPr sz="3600"/>
            </a:br>
            <a:r>
              <a:rPr b="1" lang="uk-UA" sz="3600" spc="-1" strike="noStrike">
                <a:solidFill>
                  <a:srgbClr val="221304"/>
                </a:solidFill>
                <a:latin typeface="Times New Roman"/>
              </a:rPr>
              <a:t>(ст. 373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валіфікуючі ознаки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лочин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ч. 2 ст. 37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з застосуванням до потерпілої особи насильства (може бути фізичне і психічне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) із знущанням над не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5BC-5C03-456F-B641-7360FAF906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uk-UA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орушення права на захист (ст.374)</a:t>
            </a:r>
            <a:r>
              <a:rPr b="1" lang="uk-UA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ертаційна робота на тем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мінальна відповідальність за порушення за порушення права особи на правову допомогу”,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Василь Володимирович Смі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17B-B2BE-4050-87C6-1AA0CCDA4DF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орушення права на захист (ст.374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4660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чні дані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-2011 рр. – зареєстровано 58 злочині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валіфікація на злочини проти службової діяльності (перевищення влади, зловживання службовим становищем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й відсоток латентност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0BB-0C51-497C-9103-A674C79E4D4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орушення права на захист (ст.374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41264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’єкт злочину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Основний безпосередній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інтереси правосудця в частині забезпечення конституційного права підозрюваного, обвинуваченого, підсудного на захис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одатковий факультативний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свобода та недоторканність зазначених осіб, їх здоров’я, майнові блага чи інші права або законні інтерес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BB5-D5EC-4BCA-BC80-D3D519ADCA1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орушення права на захист (ст.374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піл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ідозрюваний (ч.1 ст.42 КПК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бвинувачений / підсудний (ч.2 ст. 42 КПК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правданий (ч. 1 ст. 43 КПК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суджений (ч. 2 ст. 43 КП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C9A3-C460-4B4D-8001-49BE24A630C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4660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чні дані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-2008 рр. – 68 зареєстрованих злочині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-2012 рр. – 37 зареєстрованих злочині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ільнено з-під варти у зв'язку з закриттям кримінальної справи за відсутністю події або складу злочин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-2008 рр. – 208 осіб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-2012 рр. – 124 особ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ільнено із СІЗО та ІТТ через незаконність утримання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-2008 рр. – 1063 особ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-2012 рр. – 724 особ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ок: великий відсоток латентності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171-00D4-438F-BA52-A6D5F7D078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орушення права на захист (ст.374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70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’єктивна сторона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недопущенні чи ненаданні своєчасно захисни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наприклад, порушення встановлених законом строків залучення захисника до участі у кримінальному провадженні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іншому грубому порушенні права потерпілого на захи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наприклад, відмова без законних підстав здійснити заміну захисника, обмеження кількості і тривалості побачень, висування додаткових, вимог для підтвердження повноважень захисника тощо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E711-6C08-4793-A0AA-A454D847AE1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орушення права на захист (ст.374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6201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уб’єкт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пеціальний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слідчий, прокурор, судд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C69-FBAD-4C92-A676-DF6DDA22EC7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орушення права на захист (ст.374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уб’єктивна сторона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ямий умисе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485-6E93-4861-BE27-9FFBB7D06DA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орушення права на захист (ст.374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валіфікуючі ознаки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лочин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ч. 2 ст. 37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чинення його за попередньою змовою групою осіб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астання наслідків у вигляді засудження особи, невинної у вчиненні злочину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нші тяжкі наслід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C9E-E177-4640-B36B-DE38F986604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221304"/>
                </a:solidFill>
                <a:latin typeface="Times New Roman"/>
              </a:rPr>
              <a:t>Постановлення суддею (суддями) завідомо неправосудного вироку, рішення, ухвали або постанови (ст.375)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620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’єкт злочину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Основний безпосередній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встановлений порядок реалізації конституційних засад здійснення судочин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одатковий факультативний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життя чи здоров’я потерпілого, його свобода та недоторканність, майнові блага або інші права і законні інтерес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F2E-541E-41F4-915A-8C17CD38F72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221304"/>
                </a:solidFill>
                <a:latin typeface="Times New Roman"/>
              </a:rPr>
              <a:t>Постановлення суддею (суддями) завідомо неправосудного вироку, рішення, ухвали або постанови (ст.375)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5640" y="1557360"/>
            <a:ext cx="76201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дмет злочину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удовий акт: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рок, рішення, ухвала або постанов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езалежно від того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яка судова інстанція ухвалила цей акт (суд першої, апеляційної чи касаційної інстанції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яка галузева приналежність розглянутої судом справи (кримінальна, цивільна, адміністративна, господарська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яким складом суду було постановлено судовий акт – судом колегіально чи суддею одноособо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707-1C75-4DCD-ACFA-72F9AE2199B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221304"/>
                </a:solidFill>
                <a:latin typeface="Times New Roman"/>
              </a:rPr>
              <a:t>Постановлення суддею (суддями) завідомо неправосудного вироку, рішення, ухвали або постанови (ст.375)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70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’єктивна сторона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постановленні суддею (суддями) завідомо неправосудного судового рішен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що припускає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його складанн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підписання суддею (суддями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проголошенн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(незалежно від вступу в сил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FA1-66D0-4C35-8B93-05E7C2B3589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221304"/>
                </a:solidFill>
                <a:latin typeface="Times New Roman"/>
              </a:rPr>
              <a:t>Постановлення суддею (суддями) завідомо неправосудного вироку, рішення, ухвали або постанови (ст.375)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6201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уб’єкт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пеціальний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уддя, чи присяжний під час здійснення ними правосудд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8829-0F4B-4E39-AFC7-B2F4296E836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221304"/>
                </a:solidFill>
                <a:latin typeface="Times New Roman"/>
              </a:rPr>
              <a:t>Постановлення суддею (суддями) завідомо неправосудного вироку, рішення, ухвали або постанови (ст.375)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уб’єктивна сторона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ямий умисе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сихічне ставлення винного до наслідкі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значених у ч. 2 ст. 375 КК, може виявляти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як в умисній, так і в необережній формах ви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Мотив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корисливі спонукання чи інші особист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нтереси (ч. 2 ст. 375 К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5061-BF16-454A-9ADE-5B0B90BD571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221304"/>
                </a:solidFill>
                <a:latin typeface="Times New Roman"/>
              </a:rPr>
              <a:t>Постановлення суддею (суддями) завідомо неправосудного вироку, рішення, ухвали або постанови (ст.375)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валіфікуючі ознаки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лочин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ч. 2 ст. 37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причинення тяжких наслідкі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)   вчинення його з корисливих мотивів чи в інших особистих інтерес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1DAA-10CA-48E0-AC94-93F2720C3E9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’єкт злочин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Основний безпосередній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суспільні відносини у сфері правосуддя, з приводу забезпечення законного здійснення правоохоронними органами та судом своїх повноважень при застосуванні таких заходів процесуального характеру, як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тримання, привід, арешт та тримання під варто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Додатковий факультативний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: суспільні відносини у сфері охорони волі особи, її життя та здоров’я, особистої недоторканності, авторитет правоохоронних органів та суду тощо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A80-9F59-4554-A7BF-4ADE452F2C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r>
              <a:rPr b="1" lang="uk-UA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пілий -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оба, яка має кримінально-процесуальний статус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ідозрюваног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бвинуваченого (підсудного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судженог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відка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терпіло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2FE-57E2-4AF6-933B-3D706F52D3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15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’єктивна сторона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тримання; 2) привід (ч. 1 ст. 371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3) арешт; 4) триманні під вартою (ч. 2 ст. 37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48360" y="3213000"/>
            <a:ext cx="352908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2ED6-FBD2-4A5A-90D9-B8CE99C371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70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тримання особ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є тимчасовим запобіжним заходом, яке застосовується з підстав та в порядку, визначеному КПК України уповноваженою службовою особою до особи, що підозрюється чи обвинувачується у вчиненні злочину. Полягає у примусовому і короткочасному (на строк не більше 72 годин) позбавленні особи волі). Затримана без ухвали слідчого судді, суду особа не пізніше шістдесяти годин з моменту затримання повинна бути звільнена або доставлена до суду для розгляду клопотання про обрання стосовно неї запобіжного заход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3E06-53BC-4081-8D5E-5019F1480C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483920"/>
            <a:ext cx="7620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ві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полягає у примусовому супроводженні особи, до якої він застосовується, особою, яка виконує ухвалу про здійснення приводу, до місця її виклику в зазначений в ухвалі ча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ішення про здійснення приводу приймається: під час досудового розслідування –  слідчим суддею за клопотанням слідчого, прокурора або з власної ініціативи, а під час судового провадження – суд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оже бути застосований до підозрюваного, обвинуваченого або свід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BBE-B623-4B46-9DC7-70140F6DF8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20:15:07Z</dcterms:created>
  <dc:creator/>
  <dc:description/>
  <dc:language>en-US</dc:language>
  <cp:lastModifiedBy>admin</cp:lastModifiedBy>
  <dcterms:modified xsi:type="dcterms:W3CDTF">2013-04-30T08:10:08Z</dcterms:modified>
  <cp:revision>45</cp:revision>
  <dc:subject/>
  <dc:title>Злочини  проти правосуддя. Частина 2.</dc:title>
</cp:coreProperties>
</file>