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EF0-6866-4AD7-9291-EDC60E3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5A7-5216-41E5-890F-0395159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AFC-0F0F-4A49-BA83-848836B7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FFA-1C3D-457C-8E59-A96F4BF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8DB-B8AB-4A49-9C19-CF3A631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D1F-F343-44A6-BB57-B78815A7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F0C-DB03-4F30-81B9-219EBA2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7CD-C890-4201-9C12-556E26C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8358-30A5-4C02-A3FF-80CE86B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AA8-43A0-4303-8BB8-C5D7901E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2A3-E044-435C-9524-A805606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16D-0CBE-4D8F-8F4D-C48716B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EE9-387B-4A58-801D-A09E6E6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AAE-258E-4CE3-B682-4F9C81E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57B4-46EE-45E1-8A48-9681C89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F96-3862-43B9-8945-602B06DD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0351-E206-45D7-B42A-7189070F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A37-94E1-4D59-886E-A8E0596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6D2-8D57-478F-847B-94F03D7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8F7-A666-47DF-AEF8-B7B35670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249-DCA5-4B80-85FE-1D72A40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F16-97A8-4983-9D89-26B71C9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A7F-B796-4352-AA91-F001411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BAA-96A1-42AE-BCD0-B869364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D69-3187-4587-A876-0493B0ACF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A4E7-7611-49B3-9211-FAAF3407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0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21304"/>
                </a:solidFill>
                <a:latin typeface="Times New Roman"/>
              </a:rPr>
              <a:t>Цю публікацію здійснено за підтримки американського народу, наданої через Агентство США з міжнародного розвитку (USAID) в рамках Проекту «Справедливе правосуддя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Особливості медіації у кримінальному провадженні і цивільному процес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08764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309564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C39-5AFB-487A-82EC-6E73D7DE5E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кримінальному проваджен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лочин потрібно розглядати, в перш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ергу, як конфлікт між індивідами – тоб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к ситуацію, внаслідок якої страждають 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ерпілі, і самі правопорушники, 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точення обох сторі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085-0B63-4189-8AE9-B043389E8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кримінальному проваджен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визнання важливості почуттів та потре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ерпілого, що проявляєть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ожливості розповісти про свої потреб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 переживання, бути почутим, зустр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уміння та підтримк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ED7-4D1B-4F9B-BC22-8D2FF3074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кримінальному проваджен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прийняття правопорушни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альності за спричинену злочи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шкоду, що передбачає визн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четності до злочину та готовність д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шкодування нанесеної шкод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1A8-FBEB-4B3B-BAAD-A40E337779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кримінальному проваджен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 слідчий, прокурор, суд або суддя нада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діатору інформацію, необхідну 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статню для проведення медіації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діатор попереджається про обов'яз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 розголошувати відомості досудов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слід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BE5-D86F-4B22-833C-B7BB443B43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кримінальному проваджен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) медіаційна угода у кримінальн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вадженні є угодою про примире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) укладення угоди про примирення 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оже тлумачитися як визнання вини, а ї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укладення не спричиняє правов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слідків у кримінальному провадженн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4BC-DF1A-433D-ABFC-8134B7588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обливості (переваги) у цивільному процес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) мінімізація ризику публічного оголоше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нфлікту, що є важливим, зокрема дл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імейних спра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) неформальність і гнучкість процедур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авдяки чому сторони мають можливі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нтролювати як сам процес медіації, так 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езультат вирішення спор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73E-4879-44A0-AF2A-3F9DEB421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обливості у цивільному процес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3) передбачуваність результатів медіації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скільки сторони приймають ріше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амостійно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4) велика вірогідність виконання рішенн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(у разі успішної медіації), оскіль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торони ухвалюють рішення самостійно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2F1-B801-47B8-88B3-9C7873B57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собливості у цивільному процес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5) економія часу і офіційних витра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межах цивільного процесу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6) 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ятливі психологічні умови під ч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діації, які великою міро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безпечуються тим, що визн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альності однією зі сторін не 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бов’язковим для врегулювання спору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AE7-6164-4705-8BE2-0D4975576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4-09-23T21:00:17Z</dcterms:modified>
  <cp:revision>57</cp:revision>
  <dc:subject/>
  <dc:title>Злочини  проти правосуддя. Частина 2.</dc:title>
</cp:coreProperties>
</file>