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32B-9661-4819-B2F2-01FD236C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CBD-ECA4-41FE-B922-34CA902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6E3-0DF2-4081-9C9F-C93584A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6D7-A61C-41C7-8588-2C2269E8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41C-3223-4139-A817-26CDC590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3764-2EDD-4F41-A42B-9937E49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9302-A0F8-444E-A486-B2A3E0D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DC3F-6E5A-4A16-B28E-0004643D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035B-DFF4-45DD-94CB-0C5801BC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B8AA-9931-48F8-9920-42D491A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3582-7EBF-4EEE-A8F2-FF1F745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347-80D3-4882-AE60-652544A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77C3-2E37-4F72-9C3A-CFB1EF9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F48A-AD07-49D6-A5C5-341D15D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DB1-F5E6-47FF-A139-6ECFD30C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5903-9912-443F-84B7-F56C21E7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9B3-DCA8-4E74-9F8D-37371F3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3CC-3D9E-470B-9B9A-EC9916AD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8FD-B1F6-4899-BBB8-780AF736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D16-2A47-430D-8654-A8716BB5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BD-2EFB-4503-B5EA-9D67970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603-7840-4F88-8946-FDC3704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FF2-B38A-4599-A2A0-A807FE6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503-F835-45B6-87CC-37795D0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316-EB84-4F22-85FA-4409E3F5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754-4229-4433-B295-DB40DDD6E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7040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221304"/>
                </a:solidFill>
                <a:latin typeface="Times New Roman"/>
                <a:ea typeface="Arial"/>
              </a:rPr>
              <a:t>Злочини </a:t>
            </a:r>
            <a:br>
              <a:rPr sz="5400"/>
            </a:br>
            <a:r>
              <a:rPr b="1" lang="uk-UA" sz="5400" spc="-1" strike="noStrike">
                <a:solidFill>
                  <a:srgbClr val="221304"/>
                </a:solidFill>
                <a:latin typeface="Times New Roman"/>
                <a:ea typeface="Arial"/>
              </a:rPr>
              <a:t>проти правосуддя. Частина 2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35736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кремих видів злочинів проти правосудд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0BEE-48B9-4E51-B3F5-CD9CB9A285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1" lang="uk-UA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</a:rPr>
              <a:t>Тримання під вартою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є винятковим запобіжним заходом. Строк тримання під вартою або продовження строку тримання під вартою не може перевищувати 60-и днів. Строк тримання під вартою може бути продовжений слідчим суддею в межах строку досудового розслідування. Сукупний строк тримання під вартою під час досудового розслідування не повинен перевищува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шести місяців – у кримінальному провадженні щодо злочинів невеликої або середньої тяжкості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2) дванадцяти місяців – у кримінальному провадженні щодо тяжких або особливо тяжких злочині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E1C-A9D9-4A05-BF41-50ADAE080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ешт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 називається серед видів запобіжних заходів, передбачених ст. 176 КПК. У пункті 4 ч. 1 цієї статті фігурує лише такий запобіжний захід, як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омашній арешт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ст. 181 КПК). Але серед заходів, що забезпечують міжнародне співробітництво під час кримінального провадження вказується на такі їх види, як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екстрадиційний та тимчасовий ареш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1E3-D07C-4B74-B32A-B989FD374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законний характер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відсутність законних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ідста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застосування зазначених заход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порушення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орядку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їх застосування чи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стро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їх здійсн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286-47A9-4BFA-B3CD-C314788A3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 об'єктивної сторо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залежно від активності поведі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, як правило, вчиняється шляхом активної поведінки -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ії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те, якщо особа, наприклад, трималася під вартою із законних підстав, але після закінчення встановлених у законі строків (ст. 197 КПК) не звільняєть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-під варти без законних на це підстав, злочинне діяння здійснюється вже шляхом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бездіяльност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DAD-9389-4FF2-9F15-D9C0ED1984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мент закінчення зло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 частинами 1 та 2 ст. 371 КК відповідальність настає за злочин і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формальним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кладом, який визнається закінченим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часу вчинення хоча б одного з альтернативно перелічених дія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B9F-0694-4CF2-A2CC-F76F7773E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Ним може бути службова особа органу досудового розслідування, слідчий, прокурор, а у випадку завідомо незаконного тримання під вартою – також начальник установи попереднього ув’язненн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дді за дії, передбачені ст. 371, несуть відповідальність за ст. 375, а інші службові особи – за статтями 365 або 42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C42-DEFC-4DF1-9F7E-8A872953EE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користання законодавцем слова «завідомість» означає усвідомлення ним суспільної небезпечності незаконного затримання, приводу, арешту та тримання під варто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2E3-AA92-4D0C-A6BA-7FE72AC78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ч. 3 ст. 37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ричинення тяжких наслідк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вчинення з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рисливих мотивів чи в інших особистих інтерес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55C-EAC5-48C9-92E9-8C57C42ED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притягнення завідомо невинного до кримінальної відповідальності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кола Іванович Сийплок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908-C7E4-4147-9FC1-1E3296215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608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2 обвинувальні вирок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5 обвинувальних вироків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порушено 23 кримінальні справ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порушено 24 кримінальні справ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AD1-3321-4861-83AA-A627FE1688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лан лекції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відомо незаконні затримання, привід, арешт або тримання під вартою (ст.37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тягнення завідомо невинного до кримінальної відповідальності (ст. 37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мушування давати показання (ст.37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рушення права на захист (ст.37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Постановлення суддею (суддями) завідомо неправосудного вироку, рішення, ухвали або постанови (ст.37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E46-4D74-49B8-85AE-24B576B60B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r>
              <a:rPr b="0" lang="uk-UA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608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спільна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безпечні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лужбові особи, які уповноважені законом на такі дії, як притягнення до кримінальної відповідальності, використовують ці повноваження щодо особи, яка не вчиняла злочину, чим грубо порушують права і свободи цієї особи, породжують у неї та інших осіб відчуття соціальної і правової незахищеності, підривають віру у справедливість і законність правосудд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 своєю юридичною природою цей злочин є спеціальним видом зловживання владою або службовим становищ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46A-61BE-4844-B2B1-193A8372F2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спільні відносини у сфері правосуддя з приводу законної діяльності слідчого або прокурора, спрямовані на забезпечення прав і основних свобод людини та громадяни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вторитет правоохоронних органів тощ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485-E39D-49C0-B0E3-D2C277423D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зична особа,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евинуват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вчиненні того злочину, що їй інкримінує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цьому це може бути як особа, що взагалі не вчиняла жодний злочин, так і така, що вчинила інший злочин, ніж той, за який її притягують до кримінальної відповідальності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B5C-9FE7-410F-AB42-D71F388D8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лягає у притягненні завідомо невинного до кримінальної відповідальності, яке згідно з п. 14 ч. 1 ст. 3 КПК є стаді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го провадження, що починається з моменту повідомлення особі про підозру у вчиненні кримінального правопоруш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став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-правов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-процесуаль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CC0-F136-4D26-AD37-0C393F9D9C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алізація об’єктивної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активна поведінка суб'єкта, що полягає у вчиненні таких 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дій,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як: а) складання письмового повідомлення про підозру; б) вручення цього повідомлення особі, що підозрюється у вчиненні певного кримінального правопорушенн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ормальний склад злочину - ч. 1 ст. 372 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Злочин є 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закінченим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з моменту врученн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отерпілому письмового повідомлення пр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ідозр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FEE-247D-4D31-A6F9-70095B032B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Ним може бути тільки слідчий, прокурор, інша уповноважена службова особа, яка згідно із статтями 276-278 КПК має право здійснювати повідомлення про підозру. У випадку, якщо рішення щодо притягнення особи до кримінальної відповідальності приймав суддя, завідомо усвідомлюючи його незаконний характер, при кваліфікації дій такої особи повинна застосовуватися спеціальна норма – ст. 375 К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FB1-BF9C-4C18-AC68-D080B5C797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явність «завідомості» про невинуватість особ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2E2-D9B3-42DB-AAD9-9CF2687A55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тягнення завідом невинного до кримінальної відповідальності (ст. 37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ня у вчиненні тяжкого або особливо тяжкого злочи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штучне створенням доказів обвинувачення або інша фальсифікаці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7EC-2CDD-42ED-970B-CD9C9D144B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примушування давати показання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Ольга Олексіївна Ваку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BB7-C173-4327-8928-953F1FB326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2009 рр. – порушено 11 кримінальних спра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-2012 рр. – порушено 7 кримінальних спр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 75% працівників органів юстиції, адвокатури, громадян вказали, що їм відомі відповідні фак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: великий відсоток латентно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D86-5097-4DE4-A991-CCE56B2787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о-правова характеристика завідомо незаконних затримання, приводу, арешту та тримання під вартою”, 2008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Руслан Іванович Ме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94-D5EE-4E78-8944-241DEE77A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спільні відносини у сфері правосуддя з приводу законної діяльності осіб, які проводять досудове розслідування, спрямовані на забезпечення прав учасників кримінального провадження під час отримання показань відповідно до КПК Украї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суспільні відносини у сфері охорони життя, здоров’я, волі, особистої недоторканності, честі й гідності людини, права власності, авторитет правоохоронних органів тощ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D86-DCFF-4B64-8C9E-6C2917ED84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оба, яка згідно з КПК може давати показання при допиті під час досудового розслідув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підозрюва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свід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потерпіл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експерт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E94-530D-4C05-ABA1-2498DC39E0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(ст.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арактеризується активною поведінкою –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іями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і здійснюють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у такий спосіб, як примушуванн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у певній обстановці (при допиті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незаконн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для отримання від особи показан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 з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формальни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кладом, який визнається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кінчени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з моменту вчинення примусу давати показа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289-EBF5-40EB-A162-38C01A517B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лідчий, прокурор, тобто така уповноважена службова особа, яка за законом має право здійснювати досудове розслідування або тимчасово призначена виконувати ці функції в установленому законом порядку. Якщо примушування до давання показань здійснюється суддею під час допиту у судовому провадженні, вчинене слід кваліфікувати за ст. 365 КК, а якщо воно здійснюється з метою створення умов для постановлення неправосудного судового акта, вчинене кваліфікується за ст. 365, ч. 1 ст. 14 та ст. 375 К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E5B-3E4F-498D-8669-935C25609E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11D-4494-4039-9D9A-E566FB4D96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Примушування давати показання </a:t>
            </a:r>
            <a:br>
              <a:rPr sz="3600"/>
            </a:b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(ст. 373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з застосуванням до потерпілої особи насильства (може бути фізичне і психічне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із знущанням над не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2C9-2226-48F1-9909-11424E5987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ертаційна робота на т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а відповідальність за порушення за порушення права особи на правову допомогу”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Василь Володимирович Смі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D37-EEFF-4FEF-95B6-5E78D0E754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11 рр. – зареєстровано 58 злочин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валіфікація на злочини проти службової діяльності (перевищення влади, зловживання службовим становище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відсоток латентно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E8C-F88C-4CE6-A885-0697F49D1C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інтереси правосудця в частині забезпечення конституційного права підозрюваного, обвинуваченого, підсудного на захис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свобода та недоторканність зазначених осіб, їх здоров’я, майнові блага чи інші права або законні і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A7B-90E9-4048-93CB-FEDACF9AFE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озрюваний (ч.1 ст.42 КПК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ий / підсудний (ч.2 ст. 42 КП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правданий (ч. 1 ст. 43 КП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уджений (ч. 2 ст. 43 КП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963-D51C-470C-A81C-63DC8CB0E0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466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ні дані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68 зареєстрованих злочині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37 зареєстрованих злочині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льнено з-під варти у зв'язку з закриттям кримінальної справи за відсутністю події або складу злочин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208 осіб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124 особ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льнено із СІЗО та ІТТ через незаконність утриманн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8 рр. – 1063 особ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2 рр. – 724 особ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: великий відсоток латентност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565-8069-41FC-8C0B-4E9E4C65B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едопущенні чи ненаданні своєчасно захисни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наприклад, порушення встановлених законом строків залучення захисника до участі у кримінальному провадженні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іншому грубому порушенні права потерпілого на захи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наприклад, відмова без законних підстав здійснити заміну захисника, обмеження кількості і тривалості побачень, висування додаткових, вимог для підтвердження повноважень захисника тощ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5E8-9FAB-49F9-8BF9-A71BEA5A9C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лідчий, прокурор, судд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FB3-10F9-4009-9D3C-37CD842AADF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CF4-9734-42E3-80F8-CD3646D7D8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Порушення права на захист (ст.374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чинення його за попередньою змовою групою осіб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стання наслідків у вигляді засудження особи, невинної у вчиненні злочину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ші тяжкі наслі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BDB-B89C-450B-965B-D421999F45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становлений порядок реалізації конституційних засад здійснення судочи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життя чи здоров’я потерпілого, його свобода та недоторканність, майнові блага або інші права і законні і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0B2-89B7-4892-B589-4EA7F0EEE1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злочин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удовий акт: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ок, рішення, ухвала або постан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залежно від тог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яка судова інстанція ухвалила цей акт (суд першої, апеляційної чи касаційної інстанції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яка галузева приналежність розглянутої судом справи (кримінальна, цивільна, адміністративна, господарська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яким складом суду було постановлено судовий акт – судом колегіально чи суддею одноособо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198-E062-4DBF-A47A-9776E5CF9F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остановленні суддею (суддями) завідомо неправосудного судового ріш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що припускає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його складанн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підписання суддею (суддями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проголош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(незалежно від вступу в сил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779-A817-4427-A916-861FCCBB20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620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іальни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ддя, чи присяжний під час здійснення ними правосудд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3FA-ECED-419F-9AA3-407152AC97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у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ямий умисе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сихічне ставлення винного до наслідкі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значених у ч. 2 ст. 375 КК, може виявляти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 в умисній, так і в необережній формах ви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Моти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корисливі спонукання чи інші особи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тереси (ч. 2 ст. 375 К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2A5-4CAB-4EFA-B186-C6AE9B10FE2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21304"/>
                </a:solidFill>
                <a:latin typeface="Times New Roman"/>
              </a:rPr>
              <a:t>Постановлення суддею (суддями) завідомо неправосудного вироку, рішення, ухвали або постанови (ст.375)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іфікуючі ознаки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лочи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ч. 2 ст. 37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ричинення тяжких наслідк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  вчинення його з корисливих мотивів чи в інших особистих інтерес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454-26A7-4062-8F8B-A3E8F5C1E5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 злочин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ий безпосередній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спільні відносини у сфері правосуддя, з приводу забезпечення законного здійснення правоохоронними органами та судом своїх повноважень при застосуванні таких заходів процесуального характеру, як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тримання, привід, арешт та тримання під варто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Додатковий факультативний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: суспільні відносини у сфері охорони волі особи, її життя та здоров’я, особистої недоторканності, авторитет правоохоронних органів та суду тощо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2DD-FFCF-4B30-91C6-606737DB76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r>
              <a:rPr b="1" lang="uk-UA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ілий 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ба, яка має кримінально-процесуальний статус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озрюваног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бвинуваченого (підсудного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судженог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від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ерпіл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84D-63E0-4001-8F5E-DEDE2720C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’єктивна сторона злочин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тримання; 2) привід (ч. 1 ст. 37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) арешт; 4) триманні під вартою (ч. 2 ст. 37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52908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69D-0F65-4DDE-859B-F2806D183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0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тримання особ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є тимчасовим запобіжним заходом, яке застосовується з підстав та в порядку, визначеному КПК України уповноваженою службовою особою до особи, що підозрюється чи обвинувачується у вчиненні злочину. Полягає у примусовому і короткочасному (на строк не більше 72 годин) позбавленні особи волі). Затримана без ухвали слідчого судді, суду особа не пізніше шістдесяти годин з моменту затримання повинна бути звільнена або доставлена до суду для розгляду клопотання про обрання стосовно неї запобіжного заход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BA-25D8-44F4-9BB2-64E4E278E1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21304"/>
                </a:solidFill>
                <a:latin typeface="Times New Roman"/>
              </a:rPr>
              <a:t>Завідомо незаконні затримання, привід, арешт або тримання під вартою (ст.371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ві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полягає у примусовому супроводженні особи, до якої він застосовується, особою, яка виконує ухвалу про здійснення приводу, до місця її виклику в зазначений в ухвалі ча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шення про здійснення приводу приймається: під час досудового розслідування –  слідчим суддею за клопотанням слідчого, прокурора або з власної ініціативи, а під час судового провадження – суд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же бути застосований до підозрюваного, обвинуваченого або свід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F93-87DA-4F3F-9F0F-6E5082B6F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3-04-30T08:10:08Z</dcterms:modified>
  <cp:revision>45</cp:revision>
  <dc:subject/>
  <dc:title>Злочини  проти правосуддя. Частина 2.</dc:title>
</cp:coreProperties>
</file>