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F2F5-9D31-4F34-8FDF-D8F17D3B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BAB-3175-4984-8BE4-D596002E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AAB-CEF3-4A60-B20D-7B644CD9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099-0788-454B-A0F7-E9F66EC7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F16B-1874-4B68-A0C0-32B29F3D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0596-FA86-4992-BAFC-778ACB10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2376-A465-4809-B9B2-77B38338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CBF6-307E-4262-8ABA-6AAA6902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7E09-578E-468B-A3BE-A3C260CC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0F14-443E-4C58-B6B4-E2F913E0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120E-A834-4901-82C5-CC252ED2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7AB-3034-4780-8AA5-0A17AB05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A308-48B5-4CF1-81EE-F1FF7AF8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E2DC-1237-448E-B3E2-137E12E2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93ED-268E-48F0-8714-B090B040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6E91-5195-4A7A-B1B2-9510338D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99FC-CAA5-4CB1-9E59-7BEA48B1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EC7-7434-4449-BFEE-8A85DDF5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60E-0904-4D13-BE7F-B9F18400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62C-11AB-4BFE-B5FA-6FCE8386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C2E-E066-4228-A310-E22F2E86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844-B93B-4BFF-9FEA-62D8C99E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A9B-E759-458E-B42D-90D3D588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ACA-C3FB-41FA-ABC2-FAD205C9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5BDF-D8B9-4704-8068-68A2FEE4D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46F1-6CD1-4D06-853C-4901DB716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1557000"/>
            <a:ext cx="770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21304"/>
                </a:solidFill>
                <a:latin typeface="Times New Roman"/>
              </a:rPr>
              <a:t>Цю публікацію здійснено за підтримки американського народу, наданої через Агентство США з міжнародного розвитку (USAID) в рамках Проекту «Справедливе правосуддя»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2565360"/>
            <a:ext cx="7704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Критерії медіаційності справ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24360" y="333360"/>
            <a:ext cx="2087640" cy="1150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08000" y="333360"/>
            <a:ext cx="309564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69E9-5966-4B9D-AA4F-96E94DE093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 кримінальному провадженн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1) залежно від тяжкості злочину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2) залежно від особливостей співучасті 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чиненні злочину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3) залежно від об’єкту злочину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4) залежно від наявності потерпілого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5) залежно від кримінально-правовог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статусу суб’єкта злочину;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7354-B354-476A-AB3E-22EBF054A4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6) залежно від кримінально-правової позиції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суб’єкта злочину щодо визнання своє вини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7) залежно від наявності згоди потерпілог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та підозрюваного (обвинуваченого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ідсудного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8) залежно від позиції суб’єкта владни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овноважень (слідчий, прокурор, суддя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щодо проведення медіації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163-23BA-46B0-B87E-8E110031BB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 цивільному процес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бажання врегулювати спір мирним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шляхом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2) усвідомлене розуміння бажаног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результату учасників спору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3) необхідність не публічного  розв'язанн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конфлікту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4) наявність спільних інтересів 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майбутньому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509-FDEB-431A-9AF2-B9928EE640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Times New Roman"/>
              </a:rPr>
              <a:t>У цивільному процесі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5) в основі спору є особисті відносини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конфлікт має емоційне забарвленн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6) наявність партнерських, позитивни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ідносин у минулому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7) існує необхідність вирішення не тільк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равового спору, а й особистісного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84E-4C8E-46A7-B07D-005249CCC1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20:15:07Z</dcterms:created>
  <dc:creator/>
  <dc:description/>
  <dc:language>en-US</dc:language>
  <cp:lastModifiedBy>admin</cp:lastModifiedBy>
  <dcterms:modified xsi:type="dcterms:W3CDTF">2014-10-01T11:28:04Z</dcterms:modified>
  <cp:revision>65</cp:revision>
  <dc:subject/>
  <dc:title>Злочини  проти правосуддя. Частина 2.</dc:title>
</cp:coreProperties>
</file>