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12760" y="-36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93596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12760" y="9359640"/>
            <a:ext cx="2916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8A6C27-5A1E-457E-8642-E74842EFEF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Номер слайда 3"/>
          <p:cNvSpPr/>
          <p:nvPr/>
        </p:nvSpPr>
        <p:spPr>
          <a:xfrm>
            <a:off x="3813120" y="9360000"/>
            <a:ext cx="2916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B545F7-A396-4588-A855-83E4D33004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Номер слайда 3"/>
          <p:cNvSpPr/>
          <p:nvPr/>
        </p:nvSpPr>
        <p:spPr>
          <a:xfrm>
            <a:off x="3813120" y="9360000"/>
            <a:ext cx="2916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50659E-91F6-42F0-8673-BC5D1BC789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Номер слайда 3"/>
          <p:cNvSpPr/>
          <p:nvPr/>
        </p:nvSpPr>
        <p:spPr>
          <a:xfrm>
            <a:off x="3813120" y="9360000"/>
            <a:ext cx="2916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45AE5C-B2F0-4DE5-A58D-F57B37DEC8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Номер слайда 3"/>
          <p:cNvSpPr/>
          <p:nvPr/>
        </p:nvSpPr>
        <p:spPr>
          <a:xfrm>
            <a:off x="3813120" y="9360000"/>
            <a:ext cx="2916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896EFE-3424-41BE-ADE6-891A342CCF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Номер слайда 3"/>
          <p:cNvSpPr/>
          <p:nvPr/>
        </p:nvSpPr>
        <p:spPr>
          <a:xfrm>
            <a:off x="3813120" y="9360000"/>
            <a:ext cx="2916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AE1004-CE09-4765-A450-158509409F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Номер слайда 3"/>
          <p:cNvSpPr/>
          <p:nvPr/>
        </p:nvSpPr>
        <p:spPr>
          <a:xfrm>
            <a:off x="3813120" y="9360000"/>
            <a:ext cx="2916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068D19-D3E4-419A-9D2C-700B1F2EC8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Номер слайда 3"/>
          <p:cNvSpPr/>
          <p:nvPr/>
        </p:nvSpPr>
        <p:spPr>
          <a:xfrm>
            <a:off x="3813120" y="9360000"/>
            <a:ext cx="2916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295B8C-DC1D-40F2-9178-25934DE126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Номер слайда 3"/>
          <p:cNvSpPr/>
          <p:nvPr/>
        </p:nvSpPr>
        <p:spPr>
          <a:xfrm>
            <a:off x="3813120" y="9360000"/>
            <a:ext cx="2916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005174-4AFE-4334-A7BB-A21A4DB574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Номер слайда 3"/>
          <p:cNvSpPr/>
          <p:nvPr/>
        </p:nvSpPr>
        <p:spPr>
          <a:xfrm>
            <a:off x="3813120" y="9360000"/>
            <a:ext cx="2916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248E8A-F163-4643-A7E0-311C2C5787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Номер слайда 3"/>
          <p:cNvSpPr/>
          <p:nvPr/>
        </p:nvSpPr>
        <p:spPr>
          <a:xfrm>
            <a:off x="3813120" y="9360000"/>
            <a:ext cx="2916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BDF836-C4CC-4F51-8685-070781ACD8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E3C-874F-4D8D-92B6-95B0AC1B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CEF2-C257-4B70-B055-D5FAE706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872DF-D027-45EF-B941-D098F990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93DD0-FADE-4E6C-A689-518D43AE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093D8-5A25-4502-94C5-79B1A5C5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DB7BC-716D-42AF-8F77-A63303BD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DD4EF-BD8C-4455-892B-7A5FEE96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AE1F6-FAC8-4624-8A6B-888367EB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93136-6C63-4B0F-ACAA-30EFE1C2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5A68D-9FAE-41FC-846E-B98D0852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B71FB-F02A-4650-A543-7FD49AC1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D4B10-8C24-4292-8C6C-3C736649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966-7122-420D-A343-96B899EF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226C3-7641-4BEB-AB09-BFA9148C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2EB41-1592-46DD-A676-8A8210EF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401C4-FA43-4460-B918-C1299ED9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B8F34-0D56-487C-AC5F-12F2A665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9EE79-39D9-4890-8D09-65A23387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A4C96-9D42-40BB-9069-A716ECEC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68F01-ACB4-4FA1-8CDD-BE42E52E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F37FB-BC6B-4103-A64F-976595BA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19A1B-B9F8-462F-B2BA-089F8723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4AEB9-EE66-477F-A9E7-D328C9CA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8C5B-4882-4496-A66C-B274FC28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03B0B-3537-4545-81FF-F43B30D8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E7F52-D4E6-4816-ADA2-8BA393A2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55C40-416C-4328-898D-0D2E66BC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C73CA-3ECF-40EA-B8B3-5CAE2EE1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88ED0-8DD7-45F7-8687-26907936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09E1D-891B-40E5-95F2-F197F177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49694-A30D-4B5A-8C5D-1EBF1CC2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7A689-549B-4175-AD4A-27A8D782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5DB6C-3E46-4843-A9A2-2E55ACA1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3EB49-CD37-46E5-A208-AD852894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B303-F4DB-435F-A00C-0C1E2B0D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8AC68-5D64-446D-B3D5-1E0F7315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D4E36-4432-436E-B340-81F9EBD5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8AB45-CF49-46F9-8971-33481B3C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5934D-EB60-44D2-9561-BE164454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1B737-8AB2-403D-9F9E-79C076F9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A7DD2-4107-4658-9C01-F8C3203A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C3C77-02B1-4A02-9F41-04FB8DDE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BEDFD-2A8F-422B-93DC-85602723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38D3D-57DF-440D-A6B8-D7AFAA2D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568EB-D132-4CC7-AA04-369BF682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AA1E-2C16-4A98-B3C3-D74780C0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56ABF-0AE5-4F4B-A112-5614F179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45ACE-FC3F-4C45-B861-E93B25ED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E5CFD-EEC0-49F7-947A-B99F99A7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4A8A5-AB90-44DF-9B6B-256ACC4A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85D11-BF50-488F-BAE4-F5CCD610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D814E2-1CC2-47EB-B822-EA6E47F3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0C75A-82C0-476F-94D5-CDDA77EC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56761-A37D-40B9-868A-000DE8BF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137B5-20FD-4C08-8DB8-6240F145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749BF-AF86-423B-9F28-92C66734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A7AC-E311-4CEE-9F86-C876A997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62ECAC-3587-4780-A5E5-D70B76CA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60DB7-D61B-44BA-824E-2A3CB8D0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6A003-B908-4D2E-B1DC-D8414BF9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47303-6712-4731-835F-8CA51C4A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EB92D-68CD-4564-8108-BA17BCD9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B284A-C366-49F0-9229-0214A46E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D8C7E0-4D86-4E99-A0C6-E3DFF83F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0786-F4E7-4896-91C4-E1C90ACE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FF0D-5CD2-4A34-A231-77322AF0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8C82-D920-42BC-AE59-2CAF6CA2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FECD-04C1-48B0-86D3-35A16ACB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6E9-A4B8-4DEF-A033-C82EF463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FFFF-F7CC-4214-BB74-62DBA786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2E52-5F87-4BAF-9785-A5C9B4DA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A5F6-1A0B-44E0-A35B-804198E6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E7D0-7DF7-419A-87EC-6E52E9F9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1527-08FC-4A6D-B79F-468CBF51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94B2D-20B7-424C-B093-F2BC96A9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4B8F3-AA65-4050-BED7-F23CF2EF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3E4FF-54BE-4AE9-BC9E-B2201CC2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1FBF8-FFF6-4FCA-A904-036781E9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97F31-D883-4DFC-8CC3-482B5F4E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B18-EBA9-4BAD-BE86-F0F9B9C4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A8B05-EBD3-4830-89E0-97ED6D0E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B6FAF-24C5-41AD-AC52-F75008AB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DE849-9FAF-41E1-8E3D-47AC2B42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347FA-3AFC-4EF0-8B73-0FC42EC6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ADC76-6F79-444A-B698-475B3D1A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975BD-8DB8-4AD6-9A75-BC6630EB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D9C5A-F9D1-4254-AE89-87D8DBEC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E4CED-D45F-4FB3-B785-A982274B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3E16D-D453-4D59-93E7-0F978FE8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054EC-DF50-4460-90BE-F34ED8E3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CCF9-C9C8-480E-930D-A672FBC4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98124-36A5-4719-96EC-15C5574E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3D80F-D2E3-405B-BFCE-F587EECE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F7F58-961A-4865-BDA0-26ABE204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F243C-F8AB-4603-9339-34186FB8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A57DF-2694-4157-9E4C-1247B33C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6E2B0-0264-4882-B9A1-27451E87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D7A65-458E-476C-9C45-D1C4DDA4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59B88-5581-4EEA-A568-50F05B92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08840-6ADD-4414-BB74-0B0DEF5A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90786-4A70-4A7D-B50D-ADAE7B57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7955-66FB-4E55-B305-21271F8F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C5CDA-A668-497F-9704-98ECBC6F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903B2-F986-476F-823B-8526F3BF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0836E-686F-4D33-8DBE-91F332DC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5866A-A53F-4A91-A155-31DA8B4B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9BF3E-31E2-4567-9BEB-B923F792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CD151-C9E5-48AF-A3D9-098B2946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BB7ED-08E3-4B9F-99A2-576BE810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B439A-8410-4677-A675-084164F2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5D7BF-6751-4B18-8E87-121F3019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37B4C-ADCB-47BC-83DD-0C970C9A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CD37-7A95-4C51-BE48-D0248AFC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03D24-2A90-4AE9-828B-D71F0D74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0E2B3-55E7-4AAC-89DB-94CC4608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36B87-EF2F-4AC1-B70E-375CB3C1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54C63-24BC-4217-A961-E5DC8D0A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EA4E3-8354-47AD-B7A8-33572044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1EF40-20B8-4866-A531-835F5774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FDBF4-213B-4A07-A95D-5170FE5E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54779-9435-446C-AFDD-25C20192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DABC9-87C3-4595-813E-2B7421B8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28A47-3DF7-427F-8087-AB3673F1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E7D-E622-4F88-81F8-A569F5FC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6FBD8-C580-4DBE-89D3-7B30249B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A01CD-6219-4241-8E32-927F1C6B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EF40C-C310-4A0B-B4C4-4AFAD53C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648D5-CF91-46B9-87D2-03DB63C7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1AF6D-8862-4B3F-AB2D-AB6FB576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699D0-F79B-4814-9BE5-4EF3A5DB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1EF1C-7F4E-41B9-8ED9-893DCB57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E4D8D-6F4A-43EE-A4AF-281D7F2B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3DD6E-F344-4DFB-A224-E2E2C500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79435-10B4-413B-9EAC-C72B32E8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6E0-5970-4152-8B57-7B22958E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AC0F2-F566-4F0E-A5AB-E18B725F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5E6F3-6822-40CD-A0F5-DEA4446A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28753-5B38-43B8-969F-1F14CBC6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E8F8C-16F9-4380-AC7D-6A575D78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21B2C-47C6-4EE9-9403-536BCA02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CE99F-8D37-4A72-8D93-A8F3CA6C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C8831-893D-4A22-8D41-C29522DC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0E035-58B2-46A8-8B4D-8149AE60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8EF46-7C56-4CA2-85E3-E07B03CF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75165-C0EC-4766-8AA5-A1D4DED0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BC0-239B-4248-8D03-5BEFF7B5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B5DE1-8D1F-4B4A-A0A1-9F0AC16C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10FBA-9F01-4865-873A-4E83CF20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E2B10-4697-41E0-8826-5CD1EB30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EDEAA-35DA-4616-A1E4-B8A0D9BC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2CC28-5065-447E-8272-26DC19A6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154F6-9943-4A71-8149-066694F5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2A38A-B9CC-4ABD-9056-EF71B4AD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C8849-8D55-4E5E-97E5-A770B734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050EA-5B8A-4DF5-A51D-925F1580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8E932-601B-4953-BE4B-6644EAAB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B002-E2D9-41AF-8D3F-5C3C90E86A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EC03-8274-4D93-BD23-8AEF88F484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0C6B-BD68-411A-B603-6D43F89FA8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D288-1FC3-47A6-A12F-E020CF0525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4E3B-037D-4B5B-AFB1-21AB6D6560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ED6A-7542-457F-AA77-06B4F3E539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E294-C67D-4677-A3EB-E6D2C1AEF6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F0A8-DAF3-40A4-8315-9E02FBCA1E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3598-054A-4AC8-BF1F-8C559B63D1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8A5B-B312-46A4-BD9A-26A8AC2B4C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59C6-5871-4CCC-B754-BBFD2F1CD7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4AC0-37D4-4506-8325-B28FB5EC5F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0F29-C440-4526-9F5A-DA1525D0E6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Object 4"/>
          <p:cNvGraphicFramePr/>
          <p:nvPr/>
        </p:nvGraphicFramePr>
        <p:xfrm>
          <a:off x="250920" y="333360"/>
          <a:ext cx="63792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6379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258920" y="1412640"/>
            <a:ext cx="7534080" cy="51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WordArt 8"/>
          <p:cNvSpPr txBox="1"/>
          <p:nvPr/>
        </p:nvSpPr>
        <p:spPr>
          <a:xfrm>
            <a:off x="2484360" y="2349360"/>
            <a:ext cx="590400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blipFill rotWithShape="0">
                  <a:blip r:embed="rId3">
                    <a:alphaModFix amt="81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дійснення центрами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blipFill rotWithShape="0">
                <a:blip r:embed="rId4">
                  <a:alphaModFix amt="81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blipFill rotWithShape="0">
                  <a:blip r:embed="rId5">
                    <a:alphaModFix amt="81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ціальних служб для сім’ї,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blipFill rotWithShape="0">
                <a:blip r:embed="rId6">
                  <a:alphaModFix amt="81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blipFill rotWithShape="0">
                  <a:blip r:embed="rId7">
                    <a:alphaModFix amt="81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ітей та молоді профілактичної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blipFill rotWithShape="0">
                <a:blip r:embed="rId8">
                  <a:alphaModFix amt="81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blipFill rotWithShape="0">
                  <a:blip r:embed="rId9">
                    <a:alphaModFix amt="81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оботи серед підлітків та молоді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blipFill rotWithShape="0">
                <a:blip r:embed="rId10">
                  <a:alphaModFix amt="81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Object 2"/>
          <p:cNvGraphicFramePr/>
          <p:nvPr/>
        </p:nvGraphicFramePr>
        <p:xfrm>
          <a:off x="324000" y="33336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1332000" y="189000"/>
          <a:ext cx="7632720" cy="5668920"/>
        </p:xfrm>
        <a:graphic>
          <a:graphicData uri="http://schemas.openxmlformats.org/drawingml/2006/table">
            <a:tbl>
              <a:tblPr/>
              <a:tblGrid>
                <a:gridCol w="4176720"/>
                <a:gridCol w="345600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а реалізації державної політики у сфері боротьби з незаконним обігом наркотичних засобів, психотропних речовин і прекурсорів  на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03 – 2010 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іональна програма забезпечення профілактики ВІЛ-інфекції, допомоги та лікування ВІЛ-інфікованих і хворих на СНІД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04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2008 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13 Сприяти поданню консультаційної, психолого-педагогічної допомоги неповнолітнім та молоді у навчальних закладах, центрах соціальних служб для сім’ї, дітей та молоді та центрах ресоціалізації наркозалежної молоді „Твоя перемога”, установах кримінально-виконавчої системи, а також підтримувати програми, здійснювані іншими закладами і установами, діяльність яких пов’яза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9 Розширити можливість доступу різних категорій населення до системи добровільного консультування і тестування на ВІЛ-інфекцію/ СНІ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11 Забезпечити доступ уразливих груп населення до цільових заходів і програм профілактики ВІЛ – інфекції / СНІДу та хвороб, що передаються статевим шляхо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2" name="Object 2"/>
          <p:cNvGraphicFramePr/>
          <p:nvPr/>
        </p:nvGraphicFramePr>
        <p:xfrm>
          <a:off x="324000" y="33336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1332000" y="189000"/>
          <a:ext cx="7632720" cy="5046480"/>
        </p:xfrm>
        <a:graphic>
          <a:graphicData uri="http://schemas.openxmlformats.org/drawingml/2006/table">
            <a:tbl>
              <a:tblPr/>
              <a:tblGrid>
                <a:gridCol w="3887640"/>
                <a:gridCol w="3745080"/>
              </a:tblGrid>
              <a:tr h="11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а реалізації державної політики у сфері боротьби з незаконним обігом наркотичних засобів, психотропних речовин і прекурсорів  н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03 – 2010 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іональна програма забезпечення профілактики ВІЛ-інфекції, допомоги та лікування ВІЛ-інфікованих і хворих на СНІД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04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2008 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з профілактикою негативних проявів у молодіжному середовищі та організувати діяльність служб роботи з ін’єкційними споживачами наркотиків соціальних служб для сім’ї, дітей та молод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13 Розширити практику застосування різних методів у роботі з профілактики ВІЛ-інфекції - СНІДу серед уразливих  груп населення („соціальна робота на вулиці”, та „рівний-рівному”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36000" bIns="540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14 Створити умови для надання психологічних, соціальних, юридичних, медичних та консультаційних послуг з метою зменшення ризику уразливості до інфікування ВІЛ та недопущення дискримінації ВІЛ-інфікованих, у тому числі у сфері прац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5" name="Object 2"/>
          <p:cNvGraphicFramePr/>
          <p:nvPr/>
        </p:nvGraphicFramePr>
        <p:xfrm>
          <a:off x="324000" y="33336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1332000" y="189000"/>
          <a:ext cx="7632720" cy="6354720"/>
        </p:xfrm>
        <a:graphic>
          <a:graphicData uri="http://schemas.openxmlformats.org/drawingml/2006/table">
            <a:tbl>
              <a:tblPr/>
              <a:tblGrid>
                <a:gridCol w="4176720"/>
                <a:gridCol w="345600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а реалізації державної політики у сфері боротьби з незаконним обігом наркотичних засобів, психотропних речовин і прекурсорів  на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03 – 2010 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іональна програма забезпечення профілактики ВІЛ-інфекції, допомоги та лікування ВІЛ-інфікованих і хворих на СНІД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04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2008 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 14 Забезпечити проведення центрами соціальних служб  для молоді просвітницьких заходів через мережу спеціалізованих служб для дітей, сім’ї та молоді, їх батьків з питань профілактики наркоманії, пропаганди здорового способу життя, формування практичних навичок  протистояння шкідливому впливу наркотичних засобів і психотропних речови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 7 Забезпечити доступ різних категорій молоді (передусім молоді, що не навчається і не працює, батьків, військовослужбовців строкової служби) до інформаційно-просвітницьких заходів, спрямованих на зменшення поширеності ризикованої  щодо інфікування ВІЛ поведінки та пропаганду здорового способу життя.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Object 2"/>
          <p:cNvGraphicFramePr/>
          <p:nvPr/>
        </p:nvGraphicFramePr>
        <p:xfrm>
          <a:off x="324000" y="33336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1332000" y="189000"/>
          <a:ext cx="7632720" cy="6400800"/>
        </p:xfrm>
        <a:graphic>
          <a:graphicData uri="http://schemas.openxmlformats.org/drawingml/2006/table">
            <a:tbl>
              <a:tblPr/>
              <a:tblGrid>
                <a:gridCol w="4176720"/>
                <a:gridCol w="345600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а реалізації державної політики у сфері боротьби з незаконним обігом наркотичних засобів, психотропних речовин і прекурсорів  на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03 – 2010 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іональна програма забезпечення профілактики ВІЛ-інфекції, допомоги та лікування ВІЛ-інфікованих і хворих на СНІД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04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2008 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15.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озробити і впровадити систему підготовки соціальних працівників для роботи у наркологічних закладах, центрах ресоціалізації наркозалежної молоді „Твоя перемога”, інших закладах соціального спрямування, діяльність яких пов’язана із профілактикою негативних проявів у молодіжному середовищі. Вивчити практику залучення до антинаркотичної роботи осіб, які вилікувалися від наркотичної залежності, та їх родич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8. Забезпечити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ідготовку підвищення рівня кваліфікації та перепідготовку педагогічних, медичних і соціальних працівників з питань пропаганди здорового способу життя та профілактики ВІЛ –інфекції /СНІДу серед шкільної та студентської молоді, курсантів, військовослужбовців строкової служби, молоді, що не навчається і не працює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1" name="Object 10"/>
          <p:cNvGraphicFramePr/>
          <p:nvPr/>
        </p:nvGraphicFramePr>
        <p:xfrm>
          <a:off x="468360" y="260280"/>
          <a:ext cx="55728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0280"/>
                    <a:ext cx="55728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Rectangle 6"/>
          <p:cNvSpPr/>
          <p:nvPr/>
        </p:nvSpPr>
        <p:spPr>
          <a:xfrm>
            <a:off x="1120320" y="168480"/>
            <a:ext cx="786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офілактична робо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центрів СССДМ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через мережу спеціалізованих формуван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1332000" y="1339560"/>
            <a:ext cx="7661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лужби соціальної підтримки сім’ї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лужби „Телефон Довіри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обільні консультаційні пункти соціальної роботи в сільській та гірській місцевостях, віддалених районах міс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лужби роботи з ін’єкційними споживачами наркотикі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тудентської соціальної служб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Школи волонтерів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онсультативних пунктів у пологових будинках та відділеннях тощо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5" name="Object 10"/>
          <p:cNvGraphicFramePr/>
          <p:nvPr/>
        </p:nvGraphicFramePr>
        <p:xfrm>
          <a:off x="468360" y="260280"/>
          <a:ext cx="55728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0280"/>
                    <a:ext cx="55728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Rectangle 3"/>
          <p:cNvSpPr/>
          <p:nvPr/>
        </p:nvSpPr>
        <p:spPr>
          <a:xfrm>
            <a:off x="1403280" y="332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хоплюють цільові груп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1332000" y="912960"/>
            <a:ext cx="76611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0880" indent="-380880" algn="just">
              <a:buClr>
                <a:srgbClr val="000000"/>
              </a:buClr>
              <a:buFont typeface="Times New Roman"/>
              <a:buAutoNum type="arabicPeriod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батьків, дітей різних категорій сімей (прийомні, ДБСТ, які опинилися в складних життєвих обставинах, які виховують дитину-інваліда)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buClr>
                <a:srgbClr val="000000"/>
              </a:buClr>
              <a:buFont typeface="Times New Roman"/>
              <a:buAutoNum type="arabicPeriod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неповнолітніх та молодь в виховних, виправних колоніях, СІЗО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buClr>
                <a:srgbClr val="000000"/>
              </a:buClr>
              <a:buFont typeface="Times New Roman"/>
              <a:buAutoNum type="arabicPeriod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призовну молодь, особовий склад в військових частинах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buClr>
                <a:srgbClr val="000000"/>
              </a:buClr>
              <a:buFont typeface="Times New Roman"/>
              <a:buAutoNum type="arabicPeriod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учнівську молодь в загальноосвітніх школах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buClr>
                <a:srgbClr val="000000"/>
              </a:buClr>
              <a:buFont typeface="Times New Roman"/>
              <a:buAutoNum type="arabicPeriod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дітей та молодь в оздоровчих таборах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buClr>
                <a:srgbClr val="000000"/>
              </a:buClr>
              <a:buFont typeface="Times New Roman"/>
              <a:buAutoNum type="arabicPeriod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студентів навчальних закладів різних рівнів акредитації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buClr>
                <a:srgbClr val="000000"/>
              </a:buClr>
              <a:buFont typeface="Times New Roman"/>
              <a:buAutoNum type="arabicPeriod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неповнолітніх в притулках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buClr>
                <a:srgbClr val="000000"/>
              </a:buClr>
              <a:buFont typeface="Times New Roman"/>
              <a:buAutoNum type="arabicPeriod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громади в селах, селищах, віддалених районах міст тощ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Object 2"/>
          <p:cNvGraphicFramePr/>
          <p:nvPr/>
        </p:nvGraphicFramePr>
        <p:xfrm>
          <a:off x="539640" y="48564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8564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1" name="Group 3"/>
          <p:cNvGrpSpPr/>
          <p:nvPr/>
        </p:nvGrpSpPr>
        <p:grpSpPr>
          <a:xfrm>
            <a:off x="1619280" y="333360"/>
            <a:ext cx="7129440" cy="6190920"/>
            <a:chOff x="1619280" y="333360"/>
            <a:chExt cx="7129440" cy="6190920"/>
          </a:xfrm>
        </p:grpSpPr>
        <p:sp>
          <p:nvSpPr>
            <p:cNvPr id="592" name="AutoShape 4"/>
            <p:cNvSpPr/>
            <p:nvPr/>
          </p:nvSpPr>
          <p:spPr>
            <a:xfrm>
              <a:off x="1619280" y="333360"/>
              <a:ext cx="7129440" cy="61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5"/>
            <p:cNvSpPr/>
            <p:nvPr/>
          </p:nvSpPr>
          <p:spPr>
            <a:xfrm>
              <a:off x="1748880" y="3428640"/>
              <a:ext cx="2850840" cy="952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ЕРВИНН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ФІЛАКТ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6"/>
            <p:cNvSpPr/>
            <p:nvPr/>
          </p:nvSpPr>
          <p:spPr>
            <a:xfrm>
              <a:off x="5507640" y="5571360"/>
              <a:ext cx="3110040" cy="95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Найближче оточення молоді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та дітей (батьки, родичі, подружжя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7"/>
            <p:cNvSpPr/>
            <p:nvPr/>
          </p:nvSpPr>
          <p:spPr>
            <a:xfrm>
              <a:off x="1878840" y="571680"/>
              <a:ext cx="18147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іти, підлітки, молодь загало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8"/>
            <p:cNvSpPr/>
            <p:nvPr/>
          </p:nvSpPr>
          <p:spPr>
            <a:xfrm>
              <a:off x="1748880" y="5809680"/>
              <a:ext cx="2851560" cy="71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Широка громадськіс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9"/>
            <p:cNvSpPr/>
            <p:nvPr/>
          </p:nvSpPr>
          <p:spPr>
            <a:xfrm>
              <a:off x="4470840" y="571680"/>
              <a:ext cx="401832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Діти, підлітки, молодь, </a:t>
              </a: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які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перебувають у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несприятливих сімейних або соціальних умова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10"/>
            <p:cNvSpPr/>
            <p:nvPr/>
          </p:nvSpPr>
          <p:spPr>
            <a:xfrm>
              <a:off x="5507640" y="2237400"/>
              <a:ext cx="2981520" cy="95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соби, </a:t>
              </a: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які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мають досвід перших спроб </a:t>
              </a: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живання наркотикі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11"/>
            <p:cNvSpPr/>
            <p:nvPr/>
          </p:nvSpPr>
          <p:spPr>
            <a:xfrm>
              <a:off x="5507640" y="3905280"/>
              <a:ext cx="2981520" cy="95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соби, </a:t>
              </a: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які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мають друзів, </a:t>
              </a: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котрі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вживають наркотик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2"/>
            <p:cNvSpPr/>
            <p:nvPr/>
          </p:nvSpPr>
          <p:spPr>
            <a:xfrm flipV="1">
              <a:off x="2785680" y="1523880"/>
              <a:ext cx="0" cy="19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3"/>
            <p:cNvSpPr/>
            <p:nvPr/>
          </p:nvSpPr>
          <p:spPr>
            <a:xfrm>
              <a:off x="2785680" y="438012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4"/>
            <p:cNvSpPr/>
            <p:nvPr/>
          </p:nvSpPr>
          <p:spPr>
            <a:xfrm flipV="1">
              <a:off x="4600800" y="1524240"/>
              <a:ext cx="777240" cy="23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15"/>
            <p:cNvSpPr/>
            <p:nvPr/>
          </p:nvSpPr>
          <p:spPr>
            <a:xfrm>
              <a:off x="4600800" y="3905280"/>
              <a:ext cx="90684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16"/>
            <p:cNvSpPr/>
            <p:nvPr/>
          </p:nvSpPr>
          <p:spPr>
            <a:xfrm>
              <a:off x="4600800" y="3905280"/>
              <a:ext cx="906840" cy="214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7"/>
            <p:cNvSpPr/>
            <p:nvPr/>
          </p:nvSpPr>
          <p:spPr>
            <a:xfrm flipV="1">
              <a:off x="4600800" y="2713680"/>
              <a:ext cx="906840" cy="11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6" name="Object 10"/>
          <p:cNvGraphicFramePr/>
          <p:nvPr/>
        </p:nvGraphicFramePr>
        <p:xfrm>
          <a:off x="468360" y="260280"/>
          <a:ext cx="557280" cy="8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0280"/>
                    <a:ext cx="55728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Rectangle 3"/>
          <p:cNvSpPr/>
          <p:nvPr/>
        </p:nvSpPr>
        <p:spPr>
          <a:xfrm>
            <a:off x="1763640" y="-633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До профілактичної роботи у спеціалізованих формуваннях ЦСССДМ залучаються різні за фахом спеціалісти, зокрем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1258920" y="1728360"/>
            <a:ext cx="7661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Штатні спеціалісти ЦСССДМ (65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Залучені спеціалісти (15%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сихолог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гінеколог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рколог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ерматовенеролог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ндролог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юри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европатолог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нфекціоні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анолог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ексологи та інші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. Волонтери (20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0" name="Object 2"/>
          <p:cNvGraphicFramePr/>
          <p:nvPr/>
        </p:nvGraphicFramePr>
        <p:xfrm>
          <a:off x="539640" y="48564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8564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1979640" y="189000"/>
            <a:ext cx="6913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Форми профілактичної роботи центрів СССД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рофілактична робота містить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групові форми робо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ндивідуальну робот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екламно-видавничу діяльність (інформаційні матеріали, соціальну рекламу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3" name="Object 2"/>
          <p:cNvGraphicFramePr/>
          <p:nvPr/>
        </p:nvGraphicFramePr>
        <p:xfrm>
          <a:off x="539640" y="48564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8564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1476360" y="189000"/>
            <a:ext cx="7416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66"/>
                </a:solidFill>
                <a:latin typeface="Times New Roman"/>
              </a:rPr>
              <a:t>Види профілактичної робо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Times New Roman"/>
              </a:rPr>
              <a:t>Інформаційно-просвітницькі профілактичні заходи, в т.ч. МКП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Times New Roman"/>
              </a:rPr>
              <a:t>Основні методи групової робот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відеолекторії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тренінги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бесіди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лекції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круглі столи і т.д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 u="sng">
                <a:solidFill>
                  <a:srgbClr val="000000"/>
                </a:solidFill>
                <a:uFillTx/>
                <a:latin typeface="Times New Roman"/>
              </a:rPr>
              <a:t>Переваги:</a:t>
            </a:r>
            <a:r>
              <a:rPr b="0" lang="uk-UA" sz="2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мають значний емоційний вплив на дітей та молодь, дають можливість їх активізувати, підвищити зацікавленість в інформації щодо проблеми, можуть сформувати емоційне ставлення, швидко організовуються та охоплюють досить велику кількість людей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 u="sng">
                <a:solidFill>
                  <a:srgbClr val="000000"/>
                </a:solidFill>
                <a:uFillTx/>
                <a:latin typeface="Times New Roman"/>
              </a:rPr>
              <a:t>Недоліки: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 відсутня систематичність, не формують позитивної поведінки, діти та молодь займають пасивну позицію, швидко втрачають увагу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692360" y="836280"/>
            <a:ext cx="7200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ля здійснення практичної соціальної роботи з дітьми, молоддю та сім‘ями в Україні створена і діє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истема центрів соціальних служб для сім’ї, дітей та молоді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(далі – центри СССДМ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ережа центрів постійно розвиваєтьс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992 році діяло 48 центрів соціальних служб для сім’ї,  дітей та молоді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993 – 77 центрі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ьогодні в Україні діє 1073 центри, із них 27 регіональних, 479 районних, 163 міських, 40 районних у містах, 270 сільських, 14 селищних, 80 філій районних центрі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Object 3"/>
          <p:cNvGraphicFramePr/>
          <p:nvPr/>
        </p:nvGraphicFramePr>
        <p:xfrm>
          <a:off x="539640" y="48564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8564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Object 2"/>
          <p:cNvGraphicFramePr/>
          <p:nvPr/>
        </p:nvGraphicFramePr>
        <p:xfrm>
          <a:off x="539640" y="48564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8564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1979640" y="189000"/>
            <a:ext cx="6913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66"/>
                </a:solidFill>
                <a:latin typeface="Times New Roman"/>
              </a:rPr>
              <a:t>Види профілактичної робо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Індивідуальна профілактична робота, в т.ч. МКП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Основні методи індивідуальної робо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онсультаці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ндивідуальні бесід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реваги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індивідуальний підхід до клієнтів, індивідуальна робота спрямована на неодноразову зустріч з клієнтом, більша ефективність.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едоліки: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хоплюють невелику кількість дітей та молоді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9" name="Object 2"/>
          <p:cNvGraphicFramePr/>
          <p:nvPr/>
        </p:nvGraphicFramePr>
        <p:xfrm>
          <a:off x="539640" y="47628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1547640" y="189000"/>
            <a:ext cx="734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66"/>
                </a:solidFill>
                <a:latin typeface="Times New Roman"/>
              </a:rPr>
              <a:t>Види профілактичної робо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Виготовлення та розповсюдження профілактичних інформаційно-просвітницьких матеріалів, в т.ч. МКП, здійснюється у рамках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нформаційно-просвітницьких профілактичних заходів, в т.ч. МКП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авчальних заходів профілактичного спрямування, в т.ч. МКП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ндивідуальної профілактичної роботи, в т.ч. МК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2" name="Object 2"/>
          <p:cNvGraphicFramePr/>
          <p:nvPr/>
        </p:nvGraphicFramePr>
        <p:xfrm>
          <a:off x="539640" y="47628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547640" y="189000"/>
            <a:ext cx="734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Що заважає якісній первинній профілактичній роботі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азове використання окремих методів профілакти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едостатній рівень підготовки спеціалістів щодо надання соціальних послуг з формування здорового способу життя, профілактики соціально небезпечних хвороб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ідсутність на державному рівні єдиного центрального органа влади, що відповідає за здійснення первинної профілакти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ідсутність міжсекторальної, міжвідомчої координації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Object 2"/>
          <p:cNvGraphicFramePr/>
          <p:nvPr/>
        </p:nvGraphicFramePr>
        <p:xfrm>
          <a:off x="539640" y="47628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1547640" y="189000"/>
            <a:ext cx="734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профілактична робота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щодо попередження наркоманії та ВІЛ-інфекції/СНІДу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не розглядається важливим, пріоритетним напрямком роботи органів місцевого самоврядування.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Як наслідок –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відбувається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постійне збільшення випадків вживання наркотичних речовин в молодіжному середовищі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та поширення ВІЛ-інфекції/СНІДу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до цього часу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профілактична робота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, в переважній більшості,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фінансувалася за рахунок міжнародних організацій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не впроваджені реальні механізми та моделі здійснення первинної профілактичної роботи на місцевому рівні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8" name="Object 3"/>
          <p:cNvGraphicFramePr/>
          <p:nvPr/>
        </p:nvGraphicFramePr>
        <p:xfrm>
          <a:off x="539640" y="48564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8564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0" name="Group 5"/>
          <p:cNvGrpSpPr/>
          <p:nvPr/>
        </p:nvGrpSpPr>
        <p:grpSpPr>
          <a:xfrm>
            <a:off x="1476360" y="476280"/>
            <a:ext cx="7343640" cy="6119280"/>
            <a:chOff x="1476360" y="476280"/>
            <a:chExt cx="7343640" cy="6119280"/>
          </a:xfrm>
        </p:grpSpPr>
        <p:sp>
          <p:nvSpPr>
            <p:cNvPr id="631" name="AutoShape 6"/>
            <p:cNvSpPr/>
            <p:nvPr/>
          </p:nvSpPr>
          <p:spPr>
            <a:xfrm>
              <a:off x="1476360" y="476280"/>
              <a:ext cx="7343640" cy="61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7"/>
            <p:cNvSpPr/>
            <p:nvPr/>
          </p:nvSpPr>
          <p:spPr>
            <a:xfrm>
              <a:off x="2020680" y="3300480"/>
              <a:ext cx="2445120" cy="939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ТОРИНН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РОФІЛАКТИ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8"/>
            <p:cNvSpPr/>
            <p:nvPr/>
          </p:nvSpPr>
          <p:spPr>
            <a:xfrm>
              <a:off x="1476360" y="476280"/>
              <a:ext cx="4351680" cy="140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іти, підлітки та молодь 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і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з груп підвищеного ризику (сім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ї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вживачів наркотиків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неблагополучн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і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сім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ї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тощо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9"/>
            <p:cNvSpPr/>
            <p:nvPr/>
          </p:nvSpPr>
          <p:spPr>
            <a:xfrm>
              <a:off x="6372360" y="1180800"/>
              <a:ext cx="2310120" cy="141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іти, підлітки та молодь, які вживають психоактивні речовин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10"/>
            <p:cNvSpPr/>
            <p:nvPr/>
          </p:nvSpPr>
          <p:spPr>
            <a:xfrm>
              <a:off x="6372360" y="3300480"/>
              <a:ext cx="2310120" cy="9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Молодь, яка має багато сексуальних партнері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Rectangle 11"/>
            <p:cNvSpPr/>
            <p:nvPr/>
          </p:nvSpPr>
          <p:spPr>
            <a:xfrm>
              <a:off x="6372360" y="4947120"/>
              <a:ext cx="2310120" cy="93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Особи, які раніше хворіли на ІПСШ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Rectangle 12"/>
            <p:cNvSpPr/>
            <p:nvPr/>
          </p:nvSpPr>
          <p:spPr>
            <a:xfrm>
              <a:off x="1476360" y="5653440"/>
              <a:ext cx="4487760" cy="94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Найближче оточення дітей, підлітків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та молоді (батьки, родичі, подружжя, друзі тощо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3"/>
            <p:cNvSpPr/>
            <p:nvPr/>
          </p:nvSpPr>
          <p:spPr>
            <a:xfrm flipV="1">
              <a:off x="4468320" y="1887480"/>
              <a:ext cx="1904040" cy="18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4"/>
            <p:cNvSpPr/>
            <p:nvPr/>
          </p:nvSpPr>
          <p:spPr>
            <a:xfrm>
              <a:off x="4468320" y="3769560"/>
              <a:ext cx="190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5"/>
            <p:cNvSpPr/>
            <p:nvPr/>
          </p:nvSpPr>
          <p:spPr>
            <a:xfrm>
              <a:off x="4468320" y="3769560"/>
              <a:ext cx="1904040" cy="164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6"/>
            <p:cNvSpPr/>
            <p:nvPr/>
          </p:nvSpPr>
          <p:spPr>
            <a:xfrm>
              <a:off x="3244320" y="4240440"/>
              <a:ext cx="1080" cy="14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7"/>
            <p:cNvSpPr/>
            <p:nvPr/>
          </p:nvSpPr>
          <p:spPr>
            <a:xfrm flipV="1">
              <a:off x="3244320" y="1887480"/>
              <a:ext cx="1080" cy="14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2268360" y="836280"/>
            <a:ext cx="66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еобхідність створення Служб роботи з ін’єкційними споживачами наркотиків (далі – Служб) зумовлена стрімким поширенням ВІЛ-інфекції в Україні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лужби створені на базі консультативних пунктів для ін’єкційних споживачів наркотиків “Довіра”, діяльність яких була започаткована з 2001 року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4" name="Object 3"/>
          <p:cNvGraphicFramePr/>
          <p:nvPr/>
        </p:nvGraphicFramePr>
        <p:xfrm>
          <a:off x="539640" y="48564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8564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6" name="Object 3"/>
          <p:cNvGraphicFramePr/>
          <p:nvPr/>
        </p:nvGraphicFramePr>
        <p:xfrm>
          <a:off x="539640" y="48564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8564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2340000" y="404280"/>
            <a:ext cx="6480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 2006 році вперше з державного бюджету місцевим бюджетам було виділено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убвенцію на надання центрами соціальних служб для сім’ї, дітей та молоді соціальних послуг ін’єкційним споживачам наркотиків і членам їх сімей у розмірі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9 мільйонів гривень  -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значені кошти використані для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створенн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нових 153 Служб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9" name="Object 3"/>
          <p:cNvGraphicFramePr/>
          <p:nvPr/>
        </p:nvGraphicFramePr>
        <p:xfrm>
          <a:off x="539640" y="48564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8564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2340000" y="549360"/>
            <a:ext cx="6408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Динаміка створення Служб є наступною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001р. – 11 КП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002р. – 20 КП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003р. – 37 КП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004р. – 52 КП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005р. – 56 КП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006р. – 217 Служб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007р. – 217 Служб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008р. – 218 Служ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715600" cy="53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лужби роботи з ін'єкційними споживачами наркотикі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іські/районні центри СССД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4cd6"/>
                </a:solidFill>
                <a:latin typeface="Times New Roman"/>
              </a:rPr>
              <a:t>(безпосередня робота з клієнтом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Обласні центри СССД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4cd6"/>
                </a:solidFill>
                <a:latin typeface="Times New Roman"/>
              </a:rPr>
              <a:t>(безпосередня робота з клієнтом, надання методичної допомоги, координація та контроль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ержавна соціальна служба для сі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ї, дітей та молод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4cd6"/>
                </a:solidFill>
                <a:latin typeface="Times New Roman"/>
              </a:rPr>
              <a:t>(координація та контроль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3" name="Object 10"/>
          <p:cNvGraphicFramePr/>
          <p:nvPr/>
        </p:nvGraphicFramePr>
        <p:xfrm>
          <a:off x="395280" y="260280"/>
          <a:ext cx="64944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64944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55" name="Прямая со стрелкой 16"/>
          <p:cNvCxnSpPr/>
          <p:nvPr/>
        </p:nvCxnSpPr>
        <p:spPr>
          <a:xfrm>
            <a:off x="5572080" y="2714760"/>
            <a:ext cx="4867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656" name="Двойная стрелка вверх/вниз 27"/>
          <p:cNvSpPr/>
          <p:nvPr/>
        </p:nvSpPr>
        <p:spPr>
          <a:xfrm>
            <a:off x="4211640" y="2637000"/>
            <a:ext cx="428760" cy="863280"/>
          </a:xfrm>
          <a:prstGeom prst="upDownArrow">
            <a:avLst>
              <a:gd name="adj1" fmla="val 50000"/>
              <a:gd name="adj2" fmla="val 49963"/>
            </a:avLst>
          </a:prstGeom>
          <a:solidFill>
            <a:srgbClr val="c00000"/>
          </a:solidFill>
          <a:ln w="9360">
            <a:solidFill>
              <a:srgbClr val="004d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Двойная стрелка вверх/вниз 28"/>
          <p:cNvSpPr/>
          <p:nvPr/>
        </p:nvSpPr>
        <p:spPr>
          <a:xfrm>
            <a:off x="4211640" y="4365720"/>
            <a:ext cx="428760" cy="714240"/>
          </a:xfrm>
          <a:prstGeom prst="upDownArrow">
            <a:avLst>
              <a:gd name="adj1" fmla="val 50000"/>
              <a:gd name="adj2" fmla="val 49975"/>
            </a:avLst>
          </a:prstGeom>
          <a:solidFill>
            <a:srgbClr val="c00000"/>
          </a:solidFill>
          <a:ln w="9360">
            <a:solidFill>
              <a:srgbClr val="004d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8" name="Object 10"/>
          <p:cNvGraphicFramePr/>
          <p:nvPr/>
        </p:nvGraphicFramePr>
        <p:xfrm>
          <a:off x="539640" y="47628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Rectangle 5"/>
          <p:cNvSpPr/>
          <p:nvPr/>
        </p:nvSpPr>
        <p:spPr>
          <a:xfrm>
            <a:off x="2050920" y="404640"/>
            <a:ext cx="69138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инаміка фінансового забезпечення з державного бюджету Служб є такою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001 рік — 53 тис. грн.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002 рік — 168 тис. грн.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003 рік — 300 тис. грн.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004 рік — 419 тис. грн.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005 рік — 297 тис. грн.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006 рік – 9 млн. грн. (субвенція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007 рік – 1 млн. 900 тис. (1 млн. 600 тис. грн. – місцевий бюджет, 400 тис. грн. – позабюджетні кошти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008 рік – 1 млн. 313 тис. (1 млн. 300 тис. грн. – місцевий бюджет, 13 тис. грн. – позабюджетні кошти)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692360" y="1989000"/>
            <a:ext cx="7200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отягом останніх років одним з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ріоритетних напрямків діяльност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центрів СССДМ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є здійснення первинної та вторинної профілактики ВІЛ/СНІДу в підлітковому та молодіжному середовищі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9" name="Object 3"/>
          <p:cNvGraphicFramePr/>
          <p:nvPr/>
        </p:nvGraphicFramePr>
        <p:xfrm>
          <a:off x="539640" y="48564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8564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1" name="Object 10"/>
          <p:cNvGraphicFramePr/>
          <p:nvPr/>
        </p:nvGraphicFramePr>
        <p:xfrm>
          <a:off x="611280" y="260280"/>
          <a:ext cx="80964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60280"/>
                    <a:ext cx="80964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3" name="Rectangle 7"/>
          <p:cNvSpPr/>
          <p:nvPr/>
        </p:nvSpPr>
        <p:spPr>
          <a:xfrm>
            <a:off x="1835280" y="189000"/>
            <a:ext cx="41148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оби,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які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мають залежність від психоактивних речовин, і бажають її позбавити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8"/>
          <p:cNvSpPr/>
          <p:nvPr/>
        </p:nvSpPr>
        <p:spPr>
          <a:xfrm>
            <a:off x="1476360" y="2421000"/>
            <a:ext cx="3166920" cy="888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ЕТИННА ПРОФІЛАК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9"/>
          <p:cNvSpPr/>
          <p:nvPr/>
        </p:nvSpPr>
        <p:spPr>
          <a:xfrm>
            <a:off x="6012000" y="2349360"/>
            <a:ext cx="280800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оби,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які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ройшли лікуванн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і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котичної залежності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 реабілітаці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10"/>
          <p:cNvSpPr/>
          <p:nvPr/>
        </p:nvSpPr>
        <p:spPr>
          <a:xfrm>
            <a:off x="1403280" y="4797360"/>
            <a:ext cx="41148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йближче оточення вживачів ПАР (батьки, родичі, подружжя, друзі тощо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Двойная стрелка вверх/вниз 27"/>
          <p:cNvSpPr/>
          <p:nvPr/>
        </p:nvSpPr>
        <p:spPr>
          <a:xfrm>
            <a:off x="3203640" y="1268280"/>
            <a:ext cx="428400" cy="1008360"/>
          </a:xfrm>
          <a:prstGeom prst="upDownArrow">
            <a:avLst>
              <a:gd name="adj1" fmla="val 50000"/>
              <a:gd name="adj2" fmla="val 50040"/>
            </a:avLst>
          </a:prstGeom>
          <a:solidFill>
            <a:srgbClr val="c00000"/>
          </a:solidFill>
          <a:ln w="9360">
            <a:solidFill>
              <a:srgbClr val="004d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Двойная стрелка вверх/вниз 27"/>
          <p:cNvSpPr/>
          <p:nvPr/>
        </p:nvSpPr>
        <p:spPr>
          <a:xfrm rot="5400000">
            <a:off x="5114160" y="2239200"/>
            <a:ext cx="428400" cy="1224000"/>
          </a:xfrm>
          <a:prstGeom prst="upDownArrow">
            <a:avLst>
              <a:gd name="adj1" fmla="val 50000"/>
              <a:gd name="adj2" fmla="val 107143"/>
            </a:avLst>
          </a:prstGeom>
          <a:solidFill>
            <a:srgbClr val="c00000"/>
          </a:solidFill>
          <a:ln w="9360">
            <a:solidFill>
              <a:srgbClr val="004d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Двойная стрелка вверх/вниз 27"/>
          <p:cNvSpPr/>
          <p:nvPr/>
        </p:nvSpPr>
        <p:spPr>
          <a:xfrm>
            <a:off x="3203640" y="3429000"/>
            <a:ext cx="428400" cy="1152360"/>
          </a:xfrm>
          <a:prstGeom prst="upDownArrow">
            <a:avLst>
              <a:gd name="adj1" fmla="val 50000"/>
              <a:gd name="adj2" fmla="val 50025"/>
            </a:avLst>
          </a:prstGeom>
          <a:solidFill>
            <a:srgbClr val="c00000"/>
          </a:solidFill>
          <a:ln w="9360">
            <a:solidFill>
              <a:srgbClr val="004d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0" name="Object 10"/>
          <p:cNvGraphicFramePr/>
          <p:nvPr/>
        </p:nvGraphicFramePr>
        <p:xfrm>
          <a:off x="539640" y="47628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Rectangle 3"/>
          <p:cNvSpPr/>
          <p:nvPr/>
        </p:nvSpPr>
        <p:spPr>
          <a:xfrm>
            <a:off x="2050920" y="404640"/>
            <a:ext cx="69138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ТРЕТИННА ПРОФІЛАК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Центри ресоціалізації наркозалежної молоді „Твоя Перемога”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єдиний нормативний докумен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– постанова Кабінету Міністрів України від 13.06.2002р. № 809 “Про розвиток мережі центрів ресоціалізації наркозалежної молоді “Твоя перемога”, якою затверджено положення про вищезазначений цент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о сьогодні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итанням координації розвитку центрів ресоціалізації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наркозалежної молоді „Твоя Перемога” в Міністерстві України у справах сім’ї, молоді та спорту опікувався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епартамент сприяння соціальному становленню та розвитку молоді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Object 10"/>
          <p:cNvGraphicFramePr/>
          <p:nvPr/>
        </p:nvGraphicFramePr>
        <p:xfrm>
          <a:off x="539640" y="47628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Rectangle 3"/>
          <p:cNvSpPr/>
          <p:nvPr/>
        </p:nvSpPr>
        <p:spPr>
          <a:xfrm>
            <a:off x="2050920" y="404640"/>
            <a:ext cx="69138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1763640" y="260280"/>
            <a:ext cx="71294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ункції щодо координації роботи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щезазначених центрів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передаються Державній соціальній службі для сім’ї, дітей та молоді, яка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важно вивчає це питання і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ланує здійснити наступне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. Розроби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ове Типове положе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ро центри ресоціалізації наркозалежної молоді „Твоя Перемога”, яке набуде чинності з 01 січня 2009 року та скасувати діючу постанов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ипові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ормативи оснащення центр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ресоціалізації наркозалежної молоді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ипові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штатні нормативи працівник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центрів ресоціалізації наркозалежної молоді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валіфікаційні характеристик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сад директорів центрів ресоціалізації наркозалежної молоді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7" name="Object 10"/>
          <p:cNvGraphicFramePr/>
          <p:nvPr/>
        </p:nvGraphicFramePr>
        <p:xfrm>
          <a:off x="539640" y="47628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Rectangle 3"/>
          <p:cNvSpPr/>
          <p:nvPr/>
        </p:nvSpPr>
        <p:spPr>
          <a:xfrm>
            <a:off x="2050920" y="404640"/>
            <a:ext cx="69138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ТРЕТИННА ПРОФІЛАК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Розробити та затвердити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єдину стандартизовану загальнодержавну програму ресоціалізаці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, яка має бути погоджена з Міністерством охорони здор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Розробити та затвердити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стандарти діяльності центрів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ресоціалізації наркозалежної молоді „Твоя Перемога”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Запланувати та провести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семінари для спеціалістів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центрів соціальних служб для сім’ї, дітей та молоді, щодо організації роботи центрів ресоціалізації наркозалежної молоді „Твоя Перемога”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0" name="Object 10"/>
          <p:cNvGraphicFramePr/>
          <p:nvPr/>
        </p:nvGraphicFramePr>
        <p:xfrm>
          <a:off x="539640" y="47628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Rectangle 3"/>
          <p:cNvSpPr/>
          <p:nvPr/>
        </p:nvSpPr>
        <p:spPr>
          <a:xfrm>
            <a:off x="2050920" y="404640"/>
            <a:ext cx="69138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1763640" y="260280"/>
            <a:ext cx="712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Центри СССДМ,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дійснюють соціальний супровід дітей та молоді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(за необхідністю) в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„Клініках, дружніх до молоді”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з метою забезпечення підлітків та молоді комплексною допомогою на основі принципів Дружнього підходу до молоді для подолання проблем, пов’язаних із збереженням здоров’я (на виконання спільного наказу Мінсім’ямолодьспорту та МОЗ від 17.04.2006р. № 1209/228 “Про затвердження Порядку взаємодії центрів соціальних служб для сім’ї, дітей та молоді із закладами охорони здоров’я щодо надання медичної допомоги та соціальних послуг дітям та молоді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Object 10"/>
          <p:cNvGraphicFramePr/>
          <p:nvPr/>
        </p:nvGraphicFramePr>
        <p:xfrm>
          <a:off x="539640" y="47628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Rectangle 3"/>
          <p:cNvSpPr/>
          <p:nvPr/>
        </p:nvSpPr>
        <p:spPr>
          <a:xfrm>
            <a:off x="2050920" y="404640"/>
            <a:ext cx="69138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1763640" y="260280"/>
            <a:ext cx="7129440" cy="65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Започатковано влаштовування у прийомні сім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ї, дитячі будинки сімейного типу ВІЛ-інфікованих дітей. Затверджено наказом Мінсім’ямолодьспорту від 25.07.07 № 2668 Програму підготовки кандидатів у прийомні батьки та батьки-вихователі щодо виховання ВІЛ-інфікованих дітей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Розробляється стратегія діяльності Мінісім'ямолодьспорту щодо соціальної підтримки дітей, які живуть з ВІЛ. ( спільно з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SAID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/проектом «Визначення політики з питань здоров’я» щодо попередження епідемії ВІЛ/СНІДу, підтримки дітей, які живуть з ВІЛ, а також дітей, які перебувають на межі ризику інфікування ВІЛ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Створено та діє 6 центрів для ВІЛ-інфікованих дітей та молоді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8" name="Object 10"/>
          <p:cNvGraphicFramePr/>
          <p:nvPr/>
        </p:nvGraphicFramePr>
        <p:xfrm>
          <a:off x="539640" y="47628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Rectangle 3"/>
          <p:cNvSpPr/>
          <p:nvPr/>
        </p:nvSpPr>
        <p:spPr>
          <a:xfrm>
            <a:off x="2050920" y="404640"/>
            <a:ext cx="69138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1476360" y="260280"/>
            <a:ext cx="748836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еалізація проекті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У 2006 році підписані Угоди про взаєморозуміння з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Фондом Народонаселення ООН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щодо впровадження протягом 2007-2009 років програм “Підтримка у створенні комплексної системи соціальних послуг для споживачів наркотиків серед молоді” та „Зменшення поширення ВІЛ інфекції серед молоді у вибраних регіонах України”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 u="sng">
                <a:solidFill>
                  <a:srgbClr val="000000"/>
                </a:solidFill>
                <a:uFillTx/>
                <a:latin typeface="Times New Roman"/>
              </a:rPr>
              <a:t>В рамках виконання Угод реалізовано наступні заход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1. Зміцнено матеріально-технічну базу шляхом забезпечення служб: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офісним обладнанням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(ПК, принтери та модеми, копіювальні машини та факсимільні апарати),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канцелярським приладдям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обладнанням для навчальних цілей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2123640" y="476280"/>
            <a:ext cx="6769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. Розроблено та затверджено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галузевий стандарт надання соціальних послуг вживачам психоактивних речовин, у тому числі ін’єкційних наркотиків, і їх близькому оточенн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3. Розроблені та затверджені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оделі первинної та вторинної профілактики вживання наркотиків та інфікування ВІЛ/ІПСШ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4. Розроблені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еханізми співпраці центрів СССДМ з державними установами/закладами та недержавними організаці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3" name="Object 3"/>
          <p:cNvGraphicFramePr/>
          <p:nvPr/>
        </p:nvGraphicFramePr>
        <p:xfrm>
          <a:off x="684360" y="47628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1763640" y="691920"/>
            <a:ext cx="7129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5. Підготовлено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етодичний посібник „Соціально-профілактичні комунікації з підлітками та молоддю по формуванню безпечної поведінки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6. Розроблено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истему моніторингу та оцінки діяльності Служб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та надання соціальних послуг СІ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7. Розроблено концепцію та медіа-план загальнонаціональної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інформаційно-навчальної кампанії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, орієнтованої на молодь та спрямованої на пропаганду безпечної поведінки та профілактику зловживання наркотиків та інфікування ВІЛ/ІПСШ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6" name="Object 3"/>
          <p:cNvGraphicFramePr/>
          <p:nvPr/>
        </p:nvGraphicFramePr>
        <p:xfrm>
          <a:off x="684360" y="47628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1763640" y="691920"/>
            <a:ext cx="7129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18 регіональних центрів СССДМ забезпечені автомобілями марки “Нива Шевроле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ідготовлено 20 спеціаліст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центрів соціальних служб для сім'ї, дітей та молоді з комунікативних технік зміни поведінки підлітків та молоді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9" name="Object 3"/>
          <p:cNvGraphicFramePr/>
          <p:nvPr/>
        </p:nvGraphicFramePr>
        <p:xfrm>
          <a:off x="684360" y="47628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1692360" y="260280"/>
            <a:ext cx="720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Нормативно-правова баз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Закон України від 18.11.2003 № 1281-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 „Про загальнодержавну програму підтримки молоді на 2004-2008 роки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постанова Кабінету Міністрів України від 04.06. 2003р. № 877 „Про затвердження Програми реалізації державної політики у сфері боротьби з незаконним обігом наркотичних засобів, психотропних речовин і прекурсорів на 2003-2010 роки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Object 3"/>
          <p:cNvGraphicFramePr/>
          <p:nvPr/>
        </p:nvGraphicFramePr>
        <p:xfrm>
          <a:off x="539640" y="48564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8564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1763640" y="404640"/>
            <a:ext cx="7129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В рамках виконання договору</a:t>
            </a: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про</a:t>
            </a: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 співробітництво між Державною соціальною службою для сім'ї, дітей та молоді та Connect plus e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 виконання проекту „Навчання соціальних працівників в Україні – кваліфікаційний курс з консультування з питань наркозалежності/ВІЛ/СНІД” в рамках програми ”Навчання в сфері охорони здоров</a:t>
            </a: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 та соціальній сфері” Фонду Роберта Боша, Штуттгарт</a:t>
            </a: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авчено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18 тренер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з питань </a:t>
            </a: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наркозалежності та ВІЛ/СНІД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2" name="Object 3"/>
          <p:cNvGraphicFramePr/>
          <p:nvPr/>
        </p:nvGraphicFramePr>
        <p:xfrm>
          <a:off x="684360" y="47628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/>
          </p:nvPr>
        </p:nvSpPr>
        <p:spPr>
          <a:xfrm>
            <a:off x="1763640" y="404640"/>
            <a:ext cx="7129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 рамках договору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про співпрацю між Державною соціальною службою для сім'ї, дітей та молоді та Програмою оптимальних технологій в охороні здоров'я  від 24.05.07 № 01-04/55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навчено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44 спеціаліст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, з них 17 тренерів з питань дотестового та післятестового консультування на ВІЛ уразливих гру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Object 3"/>
          <p:cNvGraphicFramePr/>
          <p:nvPr/>
        </p:nvGraphicFramePr>
        <p:xfrm>
          <a:off x="684360" y="47628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1979280" y="404280"/>
            <a:ext cx="6840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ВИСНОВК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іяльність центрів СССДМ є необхідним дієвим механізмом попередження ВІЛ. Механізм може бути забезпечений через  надання якісних соціальних послуг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Цього можна досягти через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2667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ідвищення рівня професійної компетентності працівників центрів соціальних служб для сім’ї, дітей та молоді з питань профілактики наркоманії та ВІЛ-інфекції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8" name="Object 3"/>
          <p:cNvGraphicFramePr/>
          <p:nvPr/>
        </p:nvGraphicFramePr>
        <p:xfrm>
          <a:off x="684360" y="47628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1907640" y="404640"/>
            <a:ext cx="69850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8920" algn="just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</a:rPr>
              <a:t>впровадження стандартів соціальних послуг та системи моніторингу і оцінки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358920" algn="just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</a:rPr>
              <a:t>налагодження співпраці та взаємодії центрів СССДМ з недержавними організаціями, Центрами боротьби та профілактики з ВІЛ/СНІДом та правоохоронними органам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358920" algn="just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</a:rPr>
              <a:t>адекватного фінансування заходів  центрів СССДМ з місцевих бюджетів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1" name="Object 3"/>
          <p:cNvGraphicFramePr/>
          <p:nvPr/>
        </p:nvGraphicFramePr>
        <p:xfrm>
          <a:off x="684360" y="47628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Object 4"/>
          <p:cNvGraphicFramePr/>
          <p:nvPr/>
        </p:nvGraphicFramePr>
        <p:xfrm>
          <a:off x="684360" y="47628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5" name="Прямоугольник 3" descr=""/>
          <p:cNvPicPr/>
          <p:nvPr/>
        </p:nvPicPr>
        <p:blipFill>
          <a:blip r:embed="rId3"/>
          <a:stretch/>
        </p:blipFill>
        <p:spPr>
          <a:xfrm>
            <a:off x="2523960" y="2152800"/>
            <a:ext cx="557244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1692360" y="476280"/>
            <a:ext cx="7200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Нормативно-правова баз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станова Кабінету Міністрів України від 04.03.2004р. № 264 „Про затвердження Концепції стратегії дій Уряду, спрямованих на запобігання поширенню ВІЛ-інфекції/СНІДу, на період до 2011 рок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аціональної програми забезпечення профілактики ВІЛ-інфекції, допомоги та лікування ВІЛ-інфікованих і хворих на СНІД на 2004-2008 роки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станова Кабінету Міністрів України від 16.01.2003р. № 33 „Про затвердження Державної програми відпочинку та оздоровлення дітей на період до 2008 р.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539640" y="48564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8564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1692360" y="476280"/>
            <a:ext cx="7200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Нормативно-правова баз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наказ Мінсім'ямолодьспорту від 16.02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05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№ 3430 “Про затвердження Типового положення про службу роботи з ін'єкційними споживачами наркотиків”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пільний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наказ Мінсім'ямолодьспорту та МОЗ від 17.11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06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№ 3925/760 “Про затвердження порядку взаємодії центрів СССДМ із закладами охорони здоров'я щодо різних аспектів профілактики ВІЛ/СНІД”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наказ Мінсім'ямолодьспорту від 10.04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07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№ 1213 “Про затвердження Типових нормативів оснащення служби роботи з ін'єкційними споживачами наркотиків”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Object 3"/>
          <p:cNvGraphicFramePr/>
          <p:nvPr/>
        </p:nvGraphicFramePr>
        <p:xfrm>
          <a:off x="539640" y="48564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8564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1692360" y="476280"/>
            <a:ext cx="7200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Нормативно-правова баз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каз Мінсім'ямолодьспорту від 26.03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07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№ 901 “Про внесення змін до Типового положення про службу роботи з ін'єкційними споживачами наркотиків”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наказ Держсоцслужби від 29.03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04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№ 7 “Про вдосконалення соціальної роботи центрів соціальних служб для сім'ї, дітей та молоді з ін'єкційними споживачами наркотиків”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Object 3"/>
          <p:cNvGraphicFramePr/>
          <p:nvPr/>
        </p:nvGraphicFramePr>
        <p:xfrm>
          <a:off x="539640" y="48564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8564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Object 3"/>
          <p:cNvGraphicFramePr/>
          <p:nvPr/>
        </p:nvGraphicFramePr>
        <p:xfrm>
          <a:off x="324000" y="33336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332000" y="189000"/>
          <a:ext cx="7632720" cy="6583320"/>
        </p:xfrm>
        <a:graphic>
          <a:graphicData uri="http://schemas.openxmlformats.org/drawingml/2006/table">
            <a:tbl>
              <a:tblPr/>
              <a:tblGrid>
                <a:gridCol w="4176720"/>
                <a:gridCol w="345600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а реалізації державної політики у сфері боротьби з незаконним обігом наркотичних засобів, психотропних речовин і прекурсорів  на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03 – 2010 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іональна програма забезпечення профілактики ВІЛ-інфекції, допомоги та лікування ВІЛ-інфікованих і хворих на СНІД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04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2008 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4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 метою визначення ступеня незаконного поширення наркотичних засобів, психотропних речовин і прекурсорів та пов’язаних з цим витрат проводити дослідження науково обґрунтованих принципів наркозалежності серед дітей і підлітк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31 Забезпечити проведення наукових досліджень з питань профілактики ВІЛ-інфікування та оцінки соціально-економічних наслідків поширення ВІЛ-інфекції/СНІДу в Украї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7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учати в установленому порядку недержавні благодійні та громадські організації з метою фінансової підтримки заходів, передбачених Програмою. Налагоджувати і розвивати зв’язки з неурядовими міжнародними громадськими організаціями та фонд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5 Сприяти розширенню партнерства між урядовими, громадськими та міжнародними організаціями у вирішенні питань боротьби з ВІЛ-інфекціє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6" name="Object 2"/>
          <p:cNvGraphicFramePr/>
          <p:nvPr/>
        </p:nvGraphicFramePr>
        <p:xfrm>
          <a:off x="324000" y="333360"/>
          <a:ext cx="7794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779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332000" y="189000"/>
          <a:ext cx="7632720" cy="6408720"/>
        </p:xfrm>
        <a:graphic>
          <a:graphicData uri="http://schemas.openxmlformats.org/drawingml/2006/table">
            <a:tbl>
              <a:tblPr/>
              <a:tblGrid>
                <a:gridCol w="4103640"/>
                <a:gridCol w="3529080"/>
              </a:tblGrid>
              <a:tr h="182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а реалізації державної політики у сфері боротьби з незаконним обігом наркотичних засобів, психотропних речовин і прекурсорів  на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03 – 2010 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іональна програма забезпечення профілактики ВІЛ-інфекції, допомоги та лікування ВІЛ-інфікованих і хворих на СНІД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04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2008 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11 Розробити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уково - обґрунтовану методологію та методику антинаркотичного профілактичного навчання серед молоді та дітей, а також включити до навчальних програм професійно-технічних та вищих навчальних закладів, що готують фахівців для роботи з населенням, антинаркотичну просвітню тематику з питань пропаганди здорового способу життя, соціальних аспектів боротьби з наркоманією та запобігання ї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6 Забезпечити впровадження інформаційно-просвітницьких програм, інтерактивних форм роботи для здобуття знань і формування життєвих навичок щодо зменшення уразливості до інфікування ВІЛ у навчальних та позашкільних закладах, на підприємствах та установа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0:48:32Z</dcterms:created>
  <dc:creator>N</dc:creator>
  <dc:description/>
  <dc:language>en-US</dc:language>
  <cp:lastModifiedBy>Пользователь</cp:lastModifiedBy>
  <dcterms:modified xsi:type="dcterms:W3CDTF">2019-02-04T09:21:41Z</dcterms:modified>
  <cp:revision>761</cp:revision>
  <dc:subject/>
  <dc:title>СОЦІАЛЬНА РОБОТА, що  здійснюється центрами соціальних служб для сім’ї, дітей та молоді: </dc:title>
</cp:coreProperties>
</file>