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.png" ContentType="image/png"/>
  <Override PartName="/ppt/media/image11.jpeg" ContentType="image/jpeg"/>
  <Override PartName="/ppt/media/image33.jpeg" ContentType="image/jpeg"/>
  <Override PartName="/ppt/media/image35.jpeg" ContentType="image/jpeg"/>
  <Override PartName="/ppt/media/image2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8.jpeg" ContentType="image/jpeg"/>
  <Override PartName="/ppt/media/image48.gif" ContentType="image/gif"/>
  <Override PartName="/ppt/media/image34.jpeg" ContentType="image/jpeg"/>
  <Override PartName="/ppt/media/image7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442-1301-46C4-B9DB-CA4E7BA33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CC5-2B7D-43BD-9DE9-E6624D1C6C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99C-E53B-4D71-B6EE-A0BA197B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8FE-7B81-49C6-A1BA-2F73205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1D0B0-A107-4F9D-A415-7940EC0F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3456E-64FE-47D9-B9C6-3FA1742E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48C6A-E88A-45C4-8331-E2E484F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BC01B-5112-485B-BFB3-DE2F063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1792A-1064-444E-ACD0-8EE63C5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73E75-42E0-49FB-AA69-444165C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722C-DA4C-4746-842E-3E9A04D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97AB4-D424-4752-AA70-211C993F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50E8C-33E4-415A-A264-BDF1150C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919C5-71E1-46D6-92A4-70DEB43A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7EF-94C2-4909-B82D-B608D32F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33DD4-B581-41FE-8706-816C96D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9863-FFAC-48D0-A172-AC53197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B6393-2D50-48B1-8DEC-4EAFA0B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CE479-BC11-4DDA-A225-7D585665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CAFFF-3C9A-49BD-BA77-1557182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ECF82-33C4-4AE0-81CA-76EE5B9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C2050-7001-40BB-8D53-3FC1690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F4F32-5A9D-45A0-AABA-FF352F6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88A0-84FE-4C93-85FA-F7EB64F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91A27-CF7E-4A61-BD66-30AB4EA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846-E78D-46B5-91CA-CD0D3FBB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145B1-37EF-4F8A-AA6E-052D54F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5E6C-9F79-4DCA-AA4C-A755A0D1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0AFF7-B7DF-4901-A278-EAABAD94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CD18D-A9D2-4BE0-8E66-1808F324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425A8-5618-4714-B0FF-4687F90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C0158-B405-455B-A469-19DF0108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CE7E4-F347-49E0-957B-0A61475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0CDAD-1148-47C3-AA1B-A82C153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7034-A9A9-41A6-A924-07D474B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FC24-BF7F-42C7-8774-DACD95C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ADB-A444-498C-9B78-3458641F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54304-0ED0-498B-9D2B-7EE9BFF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014F-050F-4DF4-86B9-FD03726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A44B-BA0A-4663-B1BA-FCB2FA54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B851F-CDED-42BC-AC08-97D6D489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49428-A268-4092-91FB-B7C3DEA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219D-5B4D-4F23-8C48-CA22A68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E73B8-4AFA-4FF0-8D3F-035B071F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C22CC-E592-4995-B72B-B4D78CA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201A9-0463-407E-BFFA-CE2B46B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694B3-3232-42FA-9FD2-318DEF1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A447-07E5-409B-80B8-7214CE23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81BEA-4318-4BA5-B3E3-C854953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D74A4-E977-4802-9154-F6EC1AD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43478-4A0A-49C9-87D4-D1FF857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AAC39-6702-4CBB-9819-B328F4D4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DE3CD-B57A-4F84-835D-B80457AC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8F9D8-6B88-49CF-8CB5-5BE33217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80E49-4C54-4A79-BB8C-1834E87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33CA8-3830-4C62-B5B9-962D873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2CE1E-8C60-4EBB-B68E-F013D71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68872-6388-4E27-A9A0-ADF5FCD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7E74-C4F8-4381-8A0E-CF9007D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7D340-A98A-40BE-9281-F25CB2A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4AFF8-FA01-4210-A0A2-63585EE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2B60F-C135-4A22-9583-2E56865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416E3-2CC1-4887-AD8E-4B80476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FF4E1-C83E-4652-9607-F6A87D1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E6CEF-8223-44B3-B043-EDC597D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87B54-CB7C-4E1F-929D-107258DE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8BECE-FC2E-4B1C-AB50-B3CE5EDE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2BF5E-C406-4140-9810-BCE9B36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00B26-912B-41B3-9BA6-90C351C9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3A1-E393-48D9-9228-02623097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40A54-CA6C-4374-B9F6-BF35D63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7DF03-3FAD-4B83-9043-A821472D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FB359-2294-42BA-999E-84C81C1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BF60E-460F-4DE1-8EF5-1625A57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2B89B-A899-4803-BB99-56BC3A7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68C19-78EA-4E0E-9035-36A08E1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0E3E9-F497-436B-A91C-2818051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507EA-2F7B-4740-BAFC-C30A8E3C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9A028-DAA1-41FB-B98B-AB470901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2BD00-D976-4BC2-A74F-AE05E45F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0F8E-6AD1-4539-91F8-2B607E7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6651F-D33B-4130-8927-EB97D52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9DC88-BBF1-46F4-A7E3-BC5458B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F246B-D249-4604-92B6-1081AFD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A576E-DC8C-46A5-98A8-C0971903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3A8B9-3A29-4D99-8455-3F2D120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6E6F8-B3E2-462E-BEE7-7F04FF3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9B922-5DFD-4893-8251-2922E42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FD24D-5600-47CD-A4DD-6590807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DEAC9-09F7-48EC-9AA0-7DF4AC4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89DAA-8365-4D6B-8F1A-FE5AAD6D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ED5A-FA22-43B0-AF26-447A095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583B2-8531-4E1B-B2AA-0381324A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D7242-3E2E-4535-B48C-D33499E4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1B780-32AC-4F15-92B7-75092AC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79B41-96B0-44F3-A8E4-C101C28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4A84E-91C2-4FFE-BDA9-B5F959B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F29B4-4EE9-457E-80EF-A2B560B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0710E-9A00-43B4-BD6E-C98C3FA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CADE2-49E5-44F9-8D99-9F5D0C18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89EE0-A406-4E8A-A703-78DBCB5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B601D-353D-4024-970E-E5EF980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6520-BDB4-4462-B16D-428BB8B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8E9E1-BC63-4100-B497-3AE5AFC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1C53E-E625-49B4-9192-6191FF71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C0D4D-5F7B-48AA-9124-9B5BB441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CA8AF-EAFE-4030-AD40-AD96F25C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286B9-D4B7-4ADC-ADBF-1A72B4A8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57ADD-01BD-49B0-BB9F-D1E6CB6A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162A0-FE40-41EC-B3C5-52D8590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74D31-E307-46B0-BE07-19C6EDF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1D85E-0730-44EE-9D0A-6392801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34FB4-0711-41AE-BA3C-2321CD4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5B3-C225-4E11-BCAD-63661ED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3383-3965-49F0-93D0-899806E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927AF-60E1-42C3-8BE2-0C42CF3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380CE-416E-4C22-BCF4-4C5A6EF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4CE64-E69E-40B0-BFE9-B07806A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5FF23-A9C9-45FC-A715-5912830E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B9C09-610D-4379-A94F-B6021303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89DD0-EBED-4274-9179-F3B32C0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CA3B3-D153-4159-8768-18707555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B1A82-C8DB-4C09-8C63-3D9C8DD8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32C8D-DB02-4731-B08E-1555F63A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91132-F0CE-4B56-9282-D89BA95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58FF-04BB-4FD4-ADDC-3711BBB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1E3BE-D51A-4AD2-8A36-CEB5A33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35815-FA30-4B0B-BE14-D931D71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F58F6-014B-4567-BAD9-366E750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0CC4D-5D49-4466-8561-F6647BC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AAD2A-D9DA-450D-BE32-74D234C6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03D88-0B04-464E-81F3-2E54B768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DBC1A-070E-4195-B1ED-C2723D28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A20B3-59B5-416A-B97C-5CD21016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643B9-8895-4666-8904-1F31231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8BB76-9F32-480B-9DD8-5F150FE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25F-22F5-40D9-AA05-66A8B66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D4092-6EA5-4D24-A336-C6581E39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CE1CA-3D6F-4431-8538-7B3090D0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19DF9-6124-4AB3-AB0E-3BAE15FA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52231-CEA0-460A-A6B9-04E3B84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55CF1-DCA5-4EA8-BE27-9E71C72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83FDD-287B-42FC-8F5A-843BADC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288D5-2D90-49A2-81A9-4C9AA48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A1656-BDE6-46A4-B442-94467865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19AFA-A07A-4782-95C4-D416BD2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8355F-CFA3-4F8B-B1A5-4A4585BF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B34E-32D2-4A79-8815-7ACF7DEA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AA853-B03F-4D96-9CAD-EF6DFD15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B10BA-31C2-4894-809B-3EBB03E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FBC39-4B86-4FD1-AD56-B95C2EB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DA722-69AA-4BA5-91AE-4F832CE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DA593-8326-4708-99C0-9B4BC2D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86585-3320-4DD4-AF43-DB95708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6F0B6-040B-440F-8D92-FBEFA32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639CC-4132-4D6A-99B2-DD16D1D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E8727-0FFE-4619-B0FA-4A4C211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DF545-2057-4C6F-BF00-8E644CFD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3AF7-A7EA-4AA9-88E9-60497CAC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BDF21-68A7-470F-A46C-5CC82F56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DE5AD-4CF4-489C-995F-D78AFEFD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BD04B-B3C8-43E3-966F-8EAC022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1A4FE-5339-46E5-A965-4EC0542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59910-B293-46B5-A986-FD2B0BF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B335F-CB56-4823-AB64-3D560084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C55ED-28D1-403A-8C23-C771B8A3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688AE-3FC2-403E-BC6E-23A00AC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DF031-47AE-451C-8E0D-C59B0F7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BC458-8A89-44EE-8ED8-B5E3CBA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EC60-2525-404A-AB17-14E5856A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452B1-9012-4597-B1FC-32B59A2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0F79B-D780-4F30-8D1C-38E706A5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5CD17-C02C-4FB0-94D1-9FF345DF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F4B1A-800E-426D-8BBF-98CB4E51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C3571-6DFC-4E28-A5E6-50D4DFB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71FD8-B2F9-4BBF-A275-BEF87B0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53495-B25F-4506-8516-2A7809CC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EAAB0-224B-41F2-A846-EF96606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59403-D9D7-409D-BA27-80C2290C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AC359B-9850-41C7-AACB-5BB9DC7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E64F-23B6-42CF-B86C-009FD94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9524C-AD92-4102-AB9F-06ACC97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3E5279-2F0E-4F90-966F-CC126CC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390B6-0AE3-4D7F-884D-16FC536B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1824D-18C8-4C05-BFC9-D2F093EB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70564-4516-4C09-B7FD-0AD68875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24A67-58CF-4FDE-97EF-063C26C8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2116F-CF64-47B0-A4BE-35D7FA09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C84AD-E99C-49C8-BE2D-506B382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68BBFC-4D83-48FB-BB24-B1EE168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6B3BA-F421-4E3F-A63B-1675B59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B6E4-0550-4C2C-9DED-C1378682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BD50A9-25CE-49EA-933D-F03A191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D8687-E681-459B-8563-4F60BCB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623967-6F19-43D5-8766-CCFE4EE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3C22E-D729-43F7-BB29-4D3A43C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08389-6B07-4007-86A3-B94CE0F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0B01D8-AA5D-4B23-9514-AE59DB76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977E9-FA90-41D1-B814-7A025A3B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2BB3F7-2244-4499-A80C-91D7174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43AC31-D9C3-4719-9135-2B31E1C4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29D961-13EA-4D91-8E1E-43A1438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E2B0-6307-4B17-BF37-306E9DD3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B3662-48DF-43DC-A05B-64701C3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6A28D3-F0B5-4BE5-B15A-A4F84BE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62D733-84BC-47B8-99AB-16475C66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B8D326-DF6D-4A62-AEC6-C134B3A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69253B-0BAB-4E46-8DDA-6CB07A6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33BB6-BC2F-4C02-8904-E932971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368E1F-7E21-4270-A3D0-500AB52B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BFD22-ECFC-431B-AC28-5319E965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5BA60-0EF4-4517-B49A-71ABD06D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62C1C8-1B99-4B5A-B437-66BE4B70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8C69-D00F-4A45-849B-85E9154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907EBF-FCB9-4748-A9B6-176A39F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49113-EB18-4C30-97D2-732868B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FB1994-5305-4AAE-ADCF-0B11345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716924-4656-42CB-8460-CED874F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D65D6-72C4-4926-BAE1-E0CA5AC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64705A-8019-426A-AFD5-D401218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BAD696-DEFC-49E5-B054-83BC0BE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13B266-4494-4E98-A55B-1D96CD7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F0D8EE-0007-458B-8B39-034633F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E77F18-2D16-4C35-B39B-89E00257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D61-F02D-43BA-9276-77AAB86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E994-4E37-49BA-B00C-8274A895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BB414-E27F-4133-8DC4-D1D1D06C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386420-5021-44A6-9FD3-630CB12C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E504C8-863B-4609-A375-C0FFA779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518578-EFF0-4707-AF19-4D6065B8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F56B1-BEE6-4123-900E-C815A1D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02139-C806-495F-BE38-1A6BB78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D69C5-40B2-452D-94A2-E3F4804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1A5B2A-0B57-4E1D-8BE6-7409618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DE3287-0649-446F-8CD4-632AB88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5ED554-C357-4282-82B7-065979C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F5F8-94BD-4EBE-A2EB-2CF8548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6260D0-3157-42D8-8202-9CEB2FC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C80A96-F3C6-4C45-B41B-91B2C083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C80AF-1C9B-4D18-90BC-C9FF322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F33A29-C63A-417F-9C3F-B97872C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1A2989-6829-4C5E-8DE2-533DCDED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C04638-A241-469E-992D-0AB3DA0C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709679-04FE-4E52-BA8B-90548BE1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386FD75-3EFE-48C9-AF19-0E6EE8B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E3CAA23-A29A-40C8-8700-494FDE9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5DD785-9DF2-4061-8467-713B4FC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DA6C-60DB-4A44-8DBB-D49CB38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0ACC65-FEC9-48C0-9066-B3198C1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499B2C-4A92-48DE-9962-6A58E37C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CD5724-5F7F-466E-A96C-3015E1F3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8875CE4-BE39-4ED8-8B64-7175BE60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ED3D80F-AD18-4C0C-8C99-ED0B6CFF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549A5F-C117-4F57-B329-F9CF0602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F78F19-9F21-46E8-96F4-60EAE25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90160C-64A8-4E0E-BEEE-DEDA745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D34DA0-3C9C-41A2-88EA-D72E218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1296F2-ECE5-401A-89DA-A68BAE4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854C-DF34-4F2D-ABEA-3B87F3B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3E93DC-0226-4810-A79E-B70FA768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4EC763-6CAA-4098-9273-02C6C3F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9D4EA4-A1B5-4EC1-8DEF-24D09A9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518FA8-BA33-471E-9743-3EE3672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112EC5-90CE-434A-8A70-89907299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84001B-5987-4C81-B7E3-491D30B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7A6282-C23C-4D0D-817B-B4BF9D57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62FAD-1366-4AEE-8D7D-1E82B9F0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E109EB-8A61-44CB-81C6-962DB9F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4B8AA-9A8D-4AF4-B990-2BB2DFB7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DE23-3C1B-47D5-82B4-5ADBC42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E4AB14-07C5-420A-A7B0-8ABAFA02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6E1C7A-E74E-47B5-A81E-FB0A2D20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45C932-8F99-485F-8479-092D84B6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F19149-0E10-4BB7-98D1-B9AE7EE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E05F7E-5753-47BF-9398-CB4F4BA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6D97C3-F854-40E4-B9CB-B7052E9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A7A959-432F-4E45-8530-FF2D28D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AD152F-68E8-4055-99A0-2DC3E2C7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38596D-0B21-4A2F-81AD-5C3C95D4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5C81BF-4E68-456A-8664-26519B4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4FAE-9D8B-4926-A046-1930BEA4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238431-A75C-42FF-981A-F321CE0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027EF2-C760-49CA-A18D-D601DFC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38B913-2434-4CEB-9F76-76552EE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17F8ED-86B6-4874-8DC8-05D2389E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F6F0DA-4917-41F2-A5C8-87820883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C0F3E0-7CFD-4F7E-B258-1E765DC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9C24C7-2409-4B37-B2AC-ABBFDFF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D40662-2171-4AFF-8849-3A29B00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D805B0-0BEF-457D-95D5-356166F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8FA52C-8E13-4FE1-AFE4-01509F12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9603-9489-4567-98F8-5A662D44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DC2E8F-FF89-40EB-8743-415EE8F1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ACBA4C-B959-4656-8C7A-6EE4A695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21279C-B57B-4003-B529-67A7012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B14F69-8D02-4111-A71E-092B28C4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4DA1B6-FC63-4520-BB41-EA9F64BF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6B8B25-41B1-4811-B986-1C55F033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74DF5F-18FF-4D3F-9A08-015E66C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DDB1BB-5ECE-4A12-B16F-EA83982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E8CD8C-C381-4951-A740-1D09329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D4D5CB-53E8-4440-99C4-333BD92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6310-8197-42F2-BF00-3E2EED94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795A1A-1751-476B-AC00-45D4EA8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8C8A20-636E-4769-918F-BE327726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FE7C88-945D-4396-84BB-DDCB9D19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10A776-0881-44E1-AF14-73BDFB7A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3799A4-2FE0-4CBB-B683-1515A54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A795E0-E9A8-420A-900F-CE5FA14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D73B5E-ECD9-4AD7-B79D-6975122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599E84-CE6B-4C3E-A365-74493EC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B2EE64-AAB3-40F1-AA78-5764329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42B7B7-239D-4247-B4E3-204B905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86A1-6D4E-415A-880C-CAD546E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4B08C1-5096-4BC1-95C4-CE16FA6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B96EBC-34F4-47B2-8BF7-5AA4EEE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9AE1E2-B893-4CA8-9C97-435204E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DA401-EF8C-4D11-8657-457028B2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562D6E-B38F-4626-BE4E-B2E36F0E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187566-2F6D-4F48-B6FC-4B3C9E3C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E84E32-E6D7-49D7-A2A6-A99B7C53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CDFC58-7C24-4A8D-83C7-DB9C25B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EF6D10-C916-45C6-8E43-79BB167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F29AE8-217F-4E3D-A5DB-A22AFA7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70F7-FDB3-49B5-A453-A45FC81C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B27916-9F01-4290-A12D-61C38D1C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D6FD7F-CFBF-4A93-93D3-DAD7437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37E1D4-0B4F-49C4-A1F0-FC3F7B4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7E35DD-83A6-4D67-A2B3-5EE8A02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4C02C4-F0D1-486E-8160-4849CF7C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CBF177-21CE-43C3-9B8A-4E4417A0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392194-AF19-4D4D-916A-C7B604BD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821A9A-90DB-42AD-8399-8CC4DD8F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28334D-BED2-4BB3-BA7E-BAF823D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FA9760-9C24-4A4B-95EB-BEE165A7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18C-E132-4FD2-97B3-31BAF2E9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C4BF-87C0-45AF-A8A2-069843B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E5EA25-124C-4846-88C4-0D9DC80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35E8E1-DB67-4E9A-908B-2A7D48C7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5F911-DC90-4AC9-B287-0B791914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450E4-BE71-4804-8229-F3090C9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6A0F65-705A-442A-BAFD-3E11955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67729C-0588-46B6-893F-A14E195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3BFDC1-F181-4039-837D-E1ADD98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3E2BDA-0799-4557-943A-992882ED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B9D2CC-6556-4938-AFB2-923571C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CD40B3-DD57-45B2-8EE3-6B3EDF61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0B55-3B87-48AE-B5A0-62C608D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6FFD70-9B22-409E-A02B-DFA71071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33012A-ECE3-4BE6-97C9-EFF97AED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736AD5-5A58-4F83-AE9F-4A384322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13D160-9124-4F2F-8DA3-CCE871D7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CF7743-AF49-42FA-90E4-D3F722C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004378-F1D6-46FE-BC57-AAC0991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654D8A-C8DC-46C7-9A01-339A9ADC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CF9136-7E15-4B9D-8F68-C31BB0B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9CCF28-B060-453D-AFF6-F7D39DC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4B4AEC-AD19-455F-B166-E92CC72C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5953-1876-4104-A5D3-E9347E0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45DAB-1C69-489A-9FA9-B227F1CC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F1C982-2136-4C61-8B25-5F8BF6E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B4F6BE-31A4-4310-97F8-A987410B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EEA2AA-FC23-499D-87A9-A028023E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CE3CA7-458F-42EA-8D65-19C7409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1B0AD1-72C0-4D14-8C49-8818B2D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9F7C2F-66C9-4318-82AA-4099E37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AB30A0-8601-4C28-91EE-29D36E2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F256DB-8D09-4255-B74D-D431E98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1D1D9E-CB3C-4D32-8613-6E64E01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646E-4856-4B85-B655-9EC4A7F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F86168-2A3E-419B-995A-059A6B0A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C70481-39C3-47CA-86B3-F6DF76A6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5BFFA6-6B7C-4C2C-BA2D-F18C3688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1E1E53-45D9-420E-9F33-2AD5B1C6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0A5274-32BB-450D-90A8-E5FA4C7F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722D72-BD84-4893-8015-64EBA3A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6B26D8-E1D4-4B59-90BA-1CAF51B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191ACC-7841-4672-B03B-C2F9DB6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EA8848-7BED-4367-84C1-0EAD78F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4D1C13-7011-4251-923B-FEABF85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0F07-7AF4-498C-9529-56E1EC2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54B7F4-340D-42A6-8042-66810E2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E3352D-B442-4BD6-9FDB-7D8F47F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E8BE57-8C9D-44EE-A6A6-8C6C2B8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24C728-A803-4B44-B6D3-5F783692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65EC0F-1B56-4F79-8179-4387E0A9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543C18-7FE1-4949-B7CD-D1606828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61A3E5-BCD4-440C-8053-EE2EAD62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DDC71D-0BC2-4E44-AAF9-1ABF811F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CC4FA0-957B-4FB0-AB24-4787087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F3FCFB-3EE0-45DC-86F5-BEB71A0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CA6E-DE4D-458A-B683-FDC82E48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620CF3-A37C-44DC-80FE-5F05518B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41DC80-A741-4276-9ED3-5532A75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0FD14C-0B71-4997-888C-56391EE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1F5E33-B4ED-4365-BD49-A3BC700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4D6F4B-089D-4E52-8911-978224F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9783A4-0F89-445D-9AA2-6B94DC4E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EA90A8-63A8-48B4-BCB1-D1F5B1FE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317A6D-2B7D-44F2-99D1-A501010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641DBC-883F-4C00-9DAA-0941C40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35DA1E-DBBD-4127-BD3D-86395AF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BE8F-9C4F-4CC9-BC56-7ACB7F6E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2162AD-6001-4D04-8E9F-D9B9BE6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FABDC4-F8AB-467F-9B8D-2168E2D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A292C6-C0D2-488A-8779-85134C9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CC1365-FB4C-4E4A-BA93-12E660F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F273F0-9B8B-4956-9729-05BC2DA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55236B-4766-464B-B502-75AF30A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314C2D-6097-4EBB-95AB-846409F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A3608E-911C-4C15-9250-6C458573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A83CFD-A388-4BEF-A014-86F2A938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335D-2346-446D-A49D-096DC2C5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05DE-172E-43C0-AA79-BA410E57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403E-A2C2-4F6E-B638-D5C78A4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81A-C5EF-40CF-A0C3-B666030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0F51-3BB7-4987-9DFD-DBE0EB3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E3FA-279B-4D0B-8823-E86BF1D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E1DF-6270-4EA5-86C2-403DF158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471E-27FB-4723-94B5-90BF237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6B85-C922-48BF-A6E6-2F92A3C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0A30-F9BE-4227-A015-D8AA9A7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1669-D91D-4850-8D6A-8280D09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5DA1-AC70-4975-A0B8-B435FA4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CCA7-AC83-4243-B1C8-B814195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9976-BA36-4476-BA15-ECD1A569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D1A-5621-4365-AB3B-1C81BA69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9B16-520D-4205-B411-0A936EDA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1671-A23D-4262-B5E7-D62E35A0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3FBE-B894-4ABB-8347-FA42F881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87D3-9057-4AAC-B3CC-6310B48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0984-3097-4E06-BF38-8D92539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B041-E5C0-4BA8-97D1-A9D18C35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FFD5-F2C2-4E75-A5BB-6D8B765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C7EA9-93B6-454B-BA98-B73CBA1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2D22-CCF7-46FE-8D66-FB4777C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A7AE-AFD7-4035-8F74-7AEAC66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DD1-360D-4648-8D64-D6A6C6F8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4DED-0C98-45AB-8EF7-F0977ED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2C87-F368-403D-A12A-C4DFB99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42E9-D079-4C58-B30B-662ABE32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711F-4549-4B64-915D-54227D77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15E5-CCA0-4045-8083-C63761C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A266-4F32-4101-AFB1-2B7B63C2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937E-594B-4934-B187-47FA105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65BD-8916-47BD-9000-E966737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36DB-82C0-44CB-B937-C9351AF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58F5F-10A8-47AD-84FA-E5E345FA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385-7775-4A0E-8B55-BC19ABC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7D5F-E0AD-45D7-B36F-0523813A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C9503-A391-4A94-BABB-B9F8FE3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C7342-3925-41A6-9394-BAC6E6DA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A680-9B04-42CC-9E77-24282454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0EC2-2E8B-4EA5-B4B1-409F6173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C45A1-E683-48B4-A890-D33086DB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F8E07-00CB-44A0-BAEE-A5ECF855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6A158-B1D7-4C19-ADD8-93D8FBE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1163C-EC39-4CFA-A58E-21CAF4B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B55BC-C203-4C78-A78E-CF83C46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2B8-C889-4DC0-9E7D-21B5D43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5CE460-9791-45FA-91B3-BD9D61F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36753B-5369-41FF-A0C8-F8C1BA5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85C77-90D4-41AD-BB6C-A1A5DFFF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0F278-7F43-4E65-AA94-288358D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C0E90-1C43-4FD7-8BFB-C677877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8EFF7-9F43-4759-880A-C531BF9D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2E6BD-0BED-465C-952D-F7456AE5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C67A-10D1-4ABC-A9BD-6F80917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7CE57-3BE1-4ED2-BD6A-D7C6F066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DC2B-6797-4A3F-BA13-63F3463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A88-275D-4DED-B035-E80ADCCF50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8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9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0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70BC-B8E0-4548-A9C9-AC72E4FCB51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603-5635-4ECC-970A-5D3579DB72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E77-5861-4E6B-9C1A-DE3318CF75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0E2-63E9-4881-930A-A8AD13E5A3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C09F-10F8-4E46-AF1C-A82DE1F0ED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F3D-F7A9-410D-B6EB-D4A3ADAE06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EF13-8A5F-407B-B414-C16A8D299C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0E79-0D68-4FEF-932F-51C5EFF21F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947-A5B5-40AD-ABBA-AABE7A78D1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861-5006-4FF6-BC15-9F0CDEA81C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b3c"/>
            </a:gs>
            <a:gs pos="100000">
              <a:srgbClr val="48676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85149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2c3f3f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36157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3b5455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44b4b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4e6c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73839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b554d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4849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370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13030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3535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5655b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975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588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554d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d5950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588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2e4142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2c3f3f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3d5758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33233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d5758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45655b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b3c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44b4b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95152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4b4b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975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470-D30B-4D60-85E4-C3DAB9EBA72D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8DD-0181-48D7-BC39-895F1E48E0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861-ED96-4F91-AEF3-F593D65AEF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b3c"/>
            </a:gs>
            <a:gs pos="100000">
              <a:srgbClr val="48676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1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85149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2c3f3f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36157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3b5455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44b4b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4e6c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73839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88073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b554d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4849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370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8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13030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3535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5655b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5975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588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554d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d5950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588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2e4142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2c3f3f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3d5758"/>
                </a:gs>
                <a:gs pos="100000">
                  <a:srgbClr val="4867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33233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d5758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45655b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b3c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44b4b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95152"/>
                </a:gs>
                <a:gs pos="100000">
                  <a:srgbClr val="4867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5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4b4b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5975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711-914E-432B-B5F8-66FE3638BBFC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9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6d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60"/>
                  </a:gs>
                  <a:gs pos="100000">
                    <a:srgbClr val="00887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1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3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6f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2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7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6d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4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5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6768"/>
                    </a:gs>
                    <a:gs pos="100000">
                      <a:srgbClr val="00887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71"/>
                    </a:gs>
                    <a:gs pos="100000">
                      <a:srgbClr val="486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6768"/>
                    </a:gs>
                    <a:gs pos="100000">
                      <a:srgbClr val="00887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71"/>
                    </a:gs>
                    <a:gs pos="100000">
                      <a:srgbClr val="486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a8a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F1B2-B8A3-4F74-B712-226968AEBC8C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0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7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7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7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A6A8-AEC2-4DC0-B71B-0ADA8A81622B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4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8A8-A376-453D-A40D-655CB5C756C3}" type="slidenum">
              <a:rPr b="0" lang="uk-U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9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E3D-C81C-4E16-B9DD-B69846ED81D6}" type="slidenum">
              <a:rPr b="0" lang="uk-U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ftr" idx="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88A1-487C-4CD1-BB2C-659E8208EA8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dt" idx="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E881-C3EA-4A35-AE2E-3CC1E1476F00}" type="slidenum">
              <a:rPr b="0" lang="uk-UA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85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86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87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FAC-D337-4D69-AA65-B8FCFCB522F4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71"/>
              </a:gs>
              <a:gs pos="100000">
                <a:srgbClr val="0077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86768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6d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60"/>
                  </a:gs>
                  <a:gs pos="100000">
                    <a:srgbClr val="00887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6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67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3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c6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6f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77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7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75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6a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00806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6d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768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71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6768"/>
                    </a:gs>
                    <a:gs pos="100000">
                      <a:srgbClr val="00887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71"/>
                    </a:gs>
                    <a:gs pos="100000">
                      <a:srgbClr val="486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6768"/>
                    </a:gs>
                    <a:gs pos="100000">
                      <a:srgbClr val="00887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71"/>
                    </a:gs>
                    <a:gs pos="100000">
                      <a:srgbClr val="486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a8a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601-3FF0-4DE8-89D1-5D2CB6B14AF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88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89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90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852F-2F69-46AF-88C3-E0BF6C58DA88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9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9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9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A1D-60C2-4817-B2C0-972444FBA670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9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9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9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0E85-11B6-457B-9D1D-3566EBB9A381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9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9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9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983-A4D3-4118-A786-932CACDE94F0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10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10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10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C240-B015-4F4D-9781-F1F6501258A8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2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03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04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05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8FF-9ED5-4822-B762-E069143EB34E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4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dt" idx="106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ftr" idx="107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sldNum" idx="108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CF8-89BB-4421-9E87-6FFD79783D7A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9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10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11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88C-90A1-4CE7-B351-87BB27D478D7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8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 type="dt" idx="112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 type="ftr" idx="113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 type="sldNum" idx="114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D54-ED88-4CDA-9F59-6B58A42BD8AD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dt" idx="115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ftr" idx="116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 type="sldNum" idx="117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86C-DEB7-46F0-AC2E-CCB679124FC1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F7B-806C-415F-B394-16F378897C6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582-5346-45D2-81A3-DC7B41FDA566}" type="slidenum">
              <a:rPr b="0" lang="uk-U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2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CA7C-5F72-4C56-8926-F74F6064C756}" type="slidenum">
              <a:rPr b="0" lang="uk-U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AD83-7A7B-47C0-9D6C-B9389CA54F8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8F6-0EC1-427A-B6D9-CFB45E733DC9}" type="slidenum">
              <a:rPr b="0" lang="uk-UA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A36-741A-407D-A1CE-556405367788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vedjena.gallery.ru/?ph=cVv-xWt1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nice-places.com/data/articles/gallery/335/2606.jpg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3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hyperlink" Target="http://www.nice-places.com/data/articles/gallery/335/2610.jpg" TargetMode="External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djena.gallery.ru/?ph=cVv-bkBM8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 Narrow"/>
              </a:rPr>
              <a:t>УКРАЇНСЬКА ПИСАНКА</a:t>
            </a:r>
            <a:br>
              <a:rPr sz="3000"/>
            </a:br>
            <a:br>
              <a:rPr sz="14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0" name="Объект 5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2268000" y="1773360"/>
            <a:ext cx="4978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ерево життя – символ безперервного відновлення природи; образ Божої мудрос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ілка – охорона проти хвороб та злих сил; символ безконечного житт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2" name="Picture 3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873080" cy="2160720"/>
          </a:xfrm>
          <a:prstGeom prst="rect">
            <a:avLst/>
          </a:prstGeom>
          <a:ln w="0">
            <a:noFill/>
          </a:ln>
        </p:spPr>
      </p:pic>
      <p:pic>
        <p:nvPicPr>
          <p:cNvPr id="194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468360" y="4292640"/>
            <a:ext cx="187308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/>
          </p:nvPr>
        </p:nvSpPr>
        <p:spPr>
          <a:xfrm>
            <a:off x="2771280" y="134100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вень – провісник дня; охоронець добра; символ світла, яке побороло темря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олосся і зерно – уособлення духів предків; у християнстві – воскресіння, Боже ца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4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17152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libri"/>
              </a:rPr>
              <a:t>ХРЕСТ  –  СИМВОЛ  ВСЕСВІТ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49" name="Picture 2" descr=" Славянская писанка">
            <a:hlinkClick r:id="rId2"/>
          </p:cNvPr>
          <p:cNvPicPr/>
          <p:nvPr/>
        </p:nvPicPr>
        <p:blipFill>
          <a:blip r:embed="rId3"/>
          <a:srcRect l="0" t="0" r="0" b="6880"/>
          <a:stretch/>
        </p:blipFill>
        <p:spPr>
          <a:xfrm>
            <a:off x="468360" y="1628640"/>
            <a:ext cx="8143920" cy="4714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СИМВОЛИ - ОБЕРЕГ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9786600" y="1600200"/>
            <a:ext cx="50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2" name="Picture 1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1857600" cy="17146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953" name="Picture 2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1571760" cy="1857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1954" name="Picture 3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1714680" cy="18572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1955" name="Picture 4" descr=""/>
          <p:cNvPicPr/>
          <p:nvPr/>
        </p:nvPicPr>
        <p:blipFill>
          <a:blip r:embed="rId4"/>
          <a:stretch/>
        </p:blipFill>
        <p:spPr>
          <a:xfrm>
            <a:off x="7093080" y="4581360"/>
            <a:ext cx="1571400" cy="1785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ИМВОЛИ - ОБЕРЕГ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57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14240" y="2071800"/>
            <a:ext cx="7643880" cy="3714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Picture 1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1785960" cy="1714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59" name="Picture 2" descr=""/>
          <p:cNvPicPr/>
          <p:nvPr/>
        </p:nvPicPr>
        <p:blipFill>
          <a:blip r:embed="rId3"/>
          <a:stretch/>
        </p:blipFill>
        <p:spPr>
          <a:xfrm>
            <a:off x="1547640" y="4221000"/>
            <a:ext cx="2500560" cy="1143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60" name="Picture 4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435640" y="1628640"/>
            <a:ext cx="1857240" cy="1643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pSp>
        <p:nvGrpSpPr>
          <p:cNvPr id="1961" name="Group 6"/>
          <p:cNvGrpSpPr/>
          <p:nvPr/>
        </p:nvGrpSpPr>
        <p:grpSpPr>
          <a:xfrm>
            <a:off x="5508720" y="3645000"/>
            <a:ext cx="1785960" cy="2088720"/>
            <a:chOff x="5508720" y="3645000"/>
            <a:chExt cx="1785960" cy="2088720"/>
          </a:xfrm>
        </p:grpSpPr>
        <p:pic>
          <p:nvPicPr>
            <p:cNvPr id="1962" name="Picture 7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5508720" y="3645000"/>
              <a:ext cx="1785960" cy="179100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1963" name="Text Box 8"/>
            <p:cNvSpPr/>
            <p:nvPr/>
          </p:nvSpPr>
          <p:spPr>
            <a:xfrm>
              <a:off x="6237000" y="5542920"/>
              <a:ext cx="365760" cy="19080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4" name="Picture 3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539640" y="1700280"/>
            <a:ext cx="8215560" cy="36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65" name="WordArt 12"/>
          <p:cNvSpPr txBox="1"/>
          <p:nvPr/>
        </p:nvSpPr>
        <p:spPr>
          <a:xfrm>
            <a:off x="611280" y="549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и здоров'я і довголітт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Picture 2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143920" cy="3787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67" name="WordArt 5"/>
          <p:cNvSpPr txBox="1"/>
          <p:nvPr/>
        </p:nvSpPr>
        <p:spPr>
          <a:xfrm>
            <a:off x="1692360" y="476280"/>
            <a:ext cx="604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8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мволи, що лікую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Calibri"/>
              </a:rPr>
              <a:t>СИМВОЛИ   ЛЮБОВІ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9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000160" cy="200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70" name="Picture 3" descr=""/>
          <p:cNvPicPr/>
          <p:nvPr/>
        </p:nvPicPr>
        <p:blipFill>
          <a:blip r:embed="rId2"/>
          <a:stretch/>
        </p:blipFill>
        <p:spPr>
          <a:xfrm>
            <a:off x="3571920" y="2928960"/>
            <a:ext cx="1928880" cy="1928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pSp>
        <p:nvGrpSpPr>
          <p:cNvPr id="1971" name="Group 4"/>
          <p:cNvGrpSpPr/>
          <p:nvPr/>
        </p:nvGrpSpPr>
        <p:grpSpPr>
          <a:xfrm>
            <a:off x="6516720" y="2924280"/>
            <a:ext cx="4359240" cy="2999520"/>
            <a:chOff x="6516720" y="2924280"/>
            <a:chExt cx="4359240" cy="2999520"/>
          </a:xfrm>
        </p:grpSpPr>
        <p:pic>
          <p:nvPicPr>
            <p:cNvPr id="1972" name="Picture 5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516720" y="2924280"/>
              <a:ext cx="2000520" cy="195768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1973" name="Text Box 6"/>
            <p:cNvSpPr/>
            <p:nvPr/>
          </p:nvSpPr>
          <p:spPr>
            <a:xfrm flipV="1">
              <a:off x="10589760" y="5709240"/>
              <a:ext cx="286200" cy="21420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Times New Roman"/>
                </a:rPr>
                <a:t>квітк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" descr="Фото: Музей Писанок в Коломые Ивано-Франковской обл. к статье «Музей пасхальных яиц ">
            <a:hlinkClick r:id="rId2"/>
          </p:cNvPr>
          <p:cNvPicPr/>
          <p:nvPr/>
        </p:nvPicPr>
        <p:blipFill>
          <a:blip r:embed="rId3"/>
          <a:srcRect l="0" t="0" r="0" b="6644"/>
          <a:stretch/>
        </p:blipFill>
        <p:spPr>
          <a:xfrm>
            <a:off x="395280" y="1484280"/>
            <a:ext cx="8215200" cy="4786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КОЛОМИЙСЬКИЙ   МУЗЕЙ ПИСАН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7" name="WordArt 6"/>
          <p:cNvSpPr txBox="1"/>
          <p:nvPr/>
        </p:nvSpPr>
        <p:spPr>
          <a:xfrm>
            <a:off x="468360" y="33336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й і шануй традиції свого народу!</a:t>
            </a:r>
            <a:endParaRPr b="0" lang="en-US" sz="2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ЕКСПОНАТИ   МУЗЕ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2" descr="Экспонаты музея Писанок"/>
          <p:cNvPicPr/>
          <p:nvPr/>
        </p:nvPicPr>
        <p:blipFill>
          <a:blip r:embed="rId3"/>
          <a:srcRect l="1080" t="1426" r="1080" b="12123"/>
          <a:stretch/>
        </p:blipFill>
        <p:spPr>
          <a:xfrm>
            <a:off x="428760" y="1428840"/>
            <a:ext cx="8215200" cy="4721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 Narrow"/>
              </a:rPr>
              <a:t>   </a:t>
            </a:r>
            <a:r>
              <a:rPr b="1" lang="uk-UA" sz="2800" spc="-1" strike="noStrike">
                <a:solidFill>
                  <a:srgbClr val="0000cc"/>
                </a:solidFill>
                <a:latin typeface="Arial Narrow"/>
              </a:rPr>
              <a:t>Доля світу залежить від того, скільки писанок пишуть люди на землі щороку. Доки пишуться писанки, світ буде існувати. Зло у вигляді диявола щороку посилає своїх слуг на землю, щоб вони перевірили, чи пишуться ще писанки і чи багато їх є. Якщо так, то він втрачає силу, тому що людська любов перемагає зло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2" name="WordArt 5"/>
          <p:cNvSpPr txBox="1"/>
          <p:nvPr/>
        </p:nvSpPr>
        <p:spPr>
          <a:xfrm>
            <a:off x="1835280" y="476280"/>
            <a:ext cx="55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458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Існує легенда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Calibri"/>
              </a:rPr>
              <a:t>ЕКСПОНАТИ   МУЗЕ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" descr="Фото: Экспонаты музея Писанок к статье «Музей пасхальных яиц ">
            <a:hlinkClick r:id="rId3"/>
          </p:cNvPr>
          <p:cNvPicPr/>
          <p:nvPr/>
        </p:nvPicPr>
        <p:blipFill>
          <a:blip r:embed="rId4"/>
          <a:srcRect l="2160" t="2852" r="2160" b="14262"/>
          <a:stretch/>
        </p:blipFill>
        <p:spPr>
          <a:xfrm>
            <a:off x="500040" y="1428840"/>
            <a:ext cx="8358120" cy="4714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АМ’ЯТНИК  В  КАНАД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5" name="Picture 2" descr="размер 481x360, 47.92 kb"/>
          <p:cNvPicPr/>
          <p:nvPr/>
        </p:nvPicPr>
        <p:blipFill>
          <a:blip r:embed="rId1"/>
          <a:stretch/>
        </p:blipFill>
        <p:spPr>
          <a:xfrm>
            <a:off x="755640" y="1484280"/>
            <a:ext cx="7500960" cy="4857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Picture 2" descr="http://cache.photosight.ru/img/8/318/3559907_large.jpeg"/>
          <p:cNvPicPr/>
          <p:nvPr/>
        </p:nvPicPr>
        <p:blipFill>
          <a:blip r:embed="rId1"/>
          <a:stretch/>
        </p:blipFill>
        <p:spPr>
          <a:xfrm>
            <a:off x="250920" y="1557360"/>
            <a:ext cx="8429400" cy="500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2400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ПАННО  З </a:t>
            </a:r>
            <a:r>
              <a:rPr b="1" i="1" lang="en-US" sz="4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15000</a:t>
            </a:r>
            <a:r>
              <a:rPr b="1" i="1" lang="en-US" sz="4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 ПИСАНО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WordArt 6"/>
          <p:cNvSpPr txBox="1"/>
          <p:nvPr/>
        </p:nvSpPr>
        <p:spPr>
          <a:xfrm>
            <a:off x="1763640" y="404640"/>
            <a:ext cx="58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во з писан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WordArt 4"/>
          <p:cNvSpPr txBox="1"/>
          <p:nvPr/>
        </p:nvSpPr>
        <p:spPr>
          <a:xfrm>
            <a:off x="539640" y="765000"/>
            <a:ext cx="792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і друзі!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нуйте, вивчайте, примножуйте 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адиції українського народу!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0" name="WordArt 5"/>
          <p:cNvSpPr txBox="1"/>
          <p:nvPr/>
        </p:nvSpPr>
        <p:spPr>
          <a:xfrm>
            <a:off x="1403280" y="5373720"/>
            <a:ext cx="640872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ємо  за  уваг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6600cc"/>
                </a:solidFill>
                <a:latin typeface="Arial Narrow"/>
              </a:rPr>
              <a:t>КОЛЬОРИ НА ПИСАНКАХ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ff3300"/>
                </a:solidFill>
                <a:latin typeface="Arial Narrow"/>
              </a:rPr>
              <a:t>   </a:t>
            </a:r>
            <a:r>
              <a:rPr b="1" lang="uk-UA" sz="1700" spc="-1" strike="noStrike">
                <a:solidFill>
                  <a:srgbClr val="ff0000"/>
                </a:solidFill>
                <a:latin typeface="Arial Narrow"/>
              </a:rPr>
              <a:t>Червоний – символ радості, життя, любові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uk-UA" sz="1700" spc="-1" strike="noStrike">
                <a:solidFill>
                  <a:srgbClr val="ffff00"/>
                </a:solidFill>
                <a:latin typeface="Arial Narrow"/>
              </a:rPr>
              <a:t>Жовтий – символ сонця, урожаю, тепл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33cc33"/>
                </a:solidFill>
                <a:latin typeface="Arial Narrow"/>
              </a:rPr>
              <a:t>   </a:t>
            </a:r>
            <a:r>
              <a:rPr b="1" lang="uk-UA" sz="1700" spc="-1" strike="noStrike">
                <a:solidFill>
                  <a:srgbClr val="009900"/>
                </a:solidFill>
                <a:latin typeface="Arial Narrow"/>
              </a:rPr>
              <a:t>Зелений – символ весни, воскресіння природи, плодючості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dddddd"/>
                </a:solidFill>
                <a:latin typeface="Arial Narrow"/>
              </a:rPr>
              <a:t>   </a:t>
            </a:r>
            <a:r>
              <a:rPr b="1" lang="uk-UA" sz="1700" spc="-1" strike="noStrike">
                <a:solidFill>
                  <a:srgbClr val="666633"/>
                </a:solidFill>
                <a:latin typeface="Arial Narrow"/>
              </a:rPr>
              <a:t>Бронзовий – символ матері – землі і її щедрості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uk-UA" sz="1700" spc="-1" strike="noStrike">
                <a:solidFill>
                  <a:srgbClr val="0066ff"/>
                </a:solidFill>
                <a:latin typeface="Arial Narrow"/>
              </a:rPr>
              <a:t>Блакитний – символ неба, здоров’я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ПАСХАЛЬНЕ  ДИВО - ПИСАНКА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26" name="Picture 5" descr="http://www.vox.com.ua/data/main/data/upimages/jammer/pysanky_200609.jpg"/>
          <p:cNvPicPr/>
          <p:nvPr/>
        </p:nvPicPr>
        <p:blipFill>
          <a:blip r:embed="rId1"/>
          <a:stretch/>
        </p:blipFill>
        <p:spPr>
          <a:xfrm>
            <a:off x="900000" y="1844640"/>
            <a:ext cx="7286760" cy="457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Calibri"/>
              </a:rPr>
              <a:t>Виникнення писанки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Про саме виникнення традиції – існує переказ, що Марія Магдалин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котрій першій з’явився Воскреслий Христос, прилюдно засвідчила на Пасху 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римському амфітеатрі своє, християнство, даючи імператорові Тіберію червон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яйце з словами: “Христос-Воскрес!” Цей приклад і став основою Великодньог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привітання християн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Подарунки дарують писанки і крашанки дівчатам, батьки роздають дітя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Не прийняти від когось в дарунок писанку чи крашанку – означає дуже образи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того, хто дарує її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На Україні фарбують крашанки та розмальовують писанки у Великодню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субот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Існує легенда, що коли Ісус Христос ходив з святим Петром по землі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проповідувати, то якось зупинилися в селі, де жили іудеї. Побачивши Христ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вони почали кидати в нього камінням, грудками землі, і як торкався камінь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Ісусової одежі, то робилась з нього писанка, а як торкалась грудка, то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перетворювалась в крашанку. Святий Петро позбирав все те до кишені, а пізніш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людям роздав. З того часу ніби й пішов звичай готувати писанки та крашанки на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Великдень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9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Що потрібно для розпису ПИСАНКИ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1" name="Picture 2" descr="Выставка пасхальных писанок и гончарных изделий открылась в Киеве 4 апреля. Фото: The Epoch Times"/>
          <p:cNvPicPr/>
          <p:nvPr/>
        </p:nvPicPr>
        <p:blipFill>
          <a:blip r:embed="rId1"/>
          <a:stretch/>
        </p:blipFill>
        <p:spPr>
          <a:xfrm>
            <a:off x="395280" y="1484280"/>
            <a:ext cx="8286840" cy="4786200"/>
          </a:xfrm>
          <a:prstGeom prst="rect">
            <a:avLst/>
          </a:prstGeom>
          <a:ln w="0">
            <a:noFill/>
          </a:ln>
        </p:spPr>
      </p:pic>
      <p:pic>
        <p:nvPicPr>
          <p:cNvPr id="1932" name="Picture 5" descr=" Славянская писанка">
            <a:hlinkClick r:id="rId2"/>
          </p:cNvPr>
          <p:cNvPicPr/>
          <p:nvPr/>
        </p:nvPicPr>
        <p:blipFill>
          <a:blip r:embed="rId3"/>
          <a:srcRect l="0" t="0" r="0" b="6880"/>
          <a:stretch/>
        </p:blipFill>
        <p:spPr>
          <a:xfrm>
            <a:off x="395280" y="1484280"/>
            <a:ext cx="8215200" cy="489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1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СИМВОЛІКА  ОРНАМЕНТУ ПИСА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4" name="Picture 5" descr="http://images.pthings.ru/lessons/pisanka/ornament.jpg"/>
          <p:cNvPicPr/>
          <p:nvPr/>
        </p:nvPicPr>
        <p:blipFill>
          <a:blip r:embed="rId1"/>
          <a:stretch/>
        </p:blipFill>
        <p:spPr>
          <a:xfrm>
            <a:off x="900000" y="1557360"/>
            <a:ext cx="7286760" cy="4714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758880" y="1628640"/>
            <a:ext cx="838512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СИМВОЛИ   БАГАТОГО  УРОЖАЮ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6" name="Picture 2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072640" cy="37144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1937" name="WordArt 5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мволіка писан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41148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Сонце - символ світла й життя. Символ Хри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Трикветр – символ вогню і символ чоловічої та жіночої енергії; символ пресвятої Трійці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9" name="Picture 4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5" descr=""/>
          <p:cNvPicPr/>
          <p:nvPr/>
        </p:nvPicPr>
        <p:blipFill>
          <a:blip r:embed="rId2"/>
          <a:stretch/>
        </p:blipFill>
        <p:spPr>
          <a:xfrm>
            <a:off x="5796000" y="4365720"/>
            <a:ext cx="230328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7:12:27Z</dcterms:created>
  <dc:creator>INNA</dc:creator>
  <dc:description/>
  <dc:language>en-US</dc:language>
  <cp:lastModifiedBy>user</cp:lastModifiedBy>
  <dcterms:modified xsi:type="dcterms:W3CDTF">2012-09-04T21:25:03Z</dcterms:modified>
  <cp:revision>317</cp:revision>
  <dc:subject/>
  <dc:title>яйца</dc:title>
</cp:coreProperties>
</file>