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78B-A3C7-4435-AB20-F56DDDB7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09C-6DDA-4DF0-87E2-D6B9A2BC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C90-AE4F-4FFF-B21C-723B8D7B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102-A8DA-4431-9532-63178A67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80F0-D130-4640-BFEF-3E9E751E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9BA13-9047-4D4A-BB4F-1B7C95C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F7AB-1EB3-4E7E-879F-1CB256F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5DFC2-D2CA-43E9-A365-CC53BD0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ECB53-8E7A-4B6C-9EC9-9A5DC6AE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5C656-40AD-4DBE-A744-DCBCED32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DAC1-965A-456F-873B-FD78A57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163-91FC-4847-9A7F-62031903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329F-9EDB-4408-9E30-3B77F96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A59C8-7353-4FB0-9F3B-9A9C2192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529FA-C1B5-4C21-BE74-AC4C087D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FBA6F-16A5-4B1F-9CCC-78553AEC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B428A-39F8-4E8E-9013-3C626832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2A2-46D9-429A-83B7-27432EEB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D93-33FB-438F-B77B-2407600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558-FE66-4535-B323-937A144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6C3-6ABB-4567-837B-DB67E685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3B6-C108-4B07-843C-7610922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660-C089-479A-BC34-4B64ABA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50F-9631-4116-AA52-E8B4F78F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41D-9932-45A1-BB48-AF7E5D195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B695-B93F-436B-B620-2DB73FA80E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ff3300"/>
                </a:solidFill>
                <a:latin typeface="Vladimir Script"/>
              </a:rPr>
              <a:t>Декоративно-ужиткове мистецтво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Витинан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тинанка – художнє оформлення стін хати візерунком, вирізаним з кольорового паперу або тканини. Найпопулярнішим зображенням був «вазо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rcRect l="61401" t="1743" r="3590" b="44316"/>
          <a:stretch/>
        </p:blipFill>
        <p:spPr>
          <a:xfrm>
            <a:off x="1447920" y="2209680"/>
            <a:ext cx="3138480" cy="4648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rcRect l="3391" t="580" r="40438" b="44525"/>
          <a:stretch/>
        </p:blipFill>
        <p:spPr>
          <a:xfrm>
            <a:off x="5181480" y="2133720"/>
            <a:ext cx="3380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Ткац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кацтво – сукупність виробничих процесів виготовлення тканини на ткацькому верстаті шляхом переплетення ниток. Нитки використовують із льону, конопель, вовни. З тканини виготовляють серветки, одяг, килими, рушники та і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rcRect l="2113" t="9519" r="0" b="0"/>
          <a:stretch/>
        </p:blipFill>
        <p:spPr>
          <a:xfrm>
            <a:off x="1600200" y="2612880"/>
            <a:ext cx="60199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Виши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шивка – прикрашання одягу та побутових предметів із тканини, на яких вишивається певний орнамент. Техніки вишивки різноманітні – хрестиком, гладдю, ажурна, мережна. Розділяють білу та багатокольорову виши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1323" t="4222" r="49381" b="23409"/>
          <a:stretch/>
        </p:blipFill>
        <p:spPr>
          <a:xfrm>
            <a:off x="838080" y="205740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Виши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0" t="0" r="5350" b="0"/>
          <a:stretch/>
        </p:blipFill>
        <p:spPr>
          <a:xfrm>
            <a:off x="0" y="685800"/>
            <a:ext cx="2362320" cy="617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rcRect l="4617" t="0" r="3191" b="0"/>
          <a:stretch/>
        </p:blipFill>
        <p:spPr>
          <a:xfrm>
            <a:off x="6781680" y="893880"/>
            <a:ext cx="2362320" cy="596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3"/>
          <a:srcRect l="0" t="50456" r="67219" b="15159"/>
          <a:stretch/>
        </p:blipFill>
        <p:spPr>
          <a:xfrm>
            <a:off x="2666880" y="2133720"/>
            <a:ext cx="3886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Писанкар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исанкарство – прикрашання візерунками та орнаментом яєць. Орнамент може бути геометричним, рослинним чи тваринним. Найпоширенішою технікою розпису є воскова, хоча часто застосовують дряпанку і шкрябан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rcRect l="66053" t="2638" r="4253" b="75492"/>
          <a:stretch/>
        </p:blipFill>
        <p:spPr>
          <a:xfrm>
            <a:off x="609480" y="4707000"/>
            <a:ext cx="3276720" cy="2151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rcRect l="0" t="2836" r="67044" b="69639"/>
          <a:stretch/>
        </p:blipFill>
        <p:spPr>
          <a:xfrm>
            <a:off x="5334120" y="461016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rcRect l="0" t="34773" r="67044" b="36656"/>
          <a:stretch/>
        </p:blipFill>
        <p:spPr>
          <a:xfrm>
            <a:off x="609480" y="2133720"/>
            <a:ext cx="3276720" cy="243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rcRect l="66053" t="30763" r="0" b="42677"/>
          <a:stretch/>
        </p:blipFill>
        <p:spPr>
          <a:xfrm>
            <a:off x="5334120" y="2133720"/>
            <a:ext cx="33969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Інші в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Ковальство – найдавніше мистецтво в Україні. Ковалі, як чарівники, перетворюють метал на ті чи інші речі. Це мережані візерунки на решітках храмів, загорожах парканів і садів, віконних гратах. Усі ці вироби створені на основі вмінь, які століттями передавалися, як правило, в одному р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равюра (з фр. «вирізати») – відбиток з основи, на якій попередньо вирізають або прошкрябують зображення. Залежно від матеріалу гравюра поділяється: ксилографія – на дереві, офорт – металі, – ліногравюра – лінолеум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Флористика – техніка створення композиції з природних матеріалі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ff3300"/>
                </a:solidFill>
                <a:latin typeface="Tahoma"/>
              </a:rPr>
              <a:t>Український народний одяг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Наддніпрянщ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106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ahoma"/>
              </a:rPr>
              <a:t>Воли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5105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Поділ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81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533520" y="838080"/>
            <a:ext cx="7848360" cy="5105520"/>
            <a:chOff x="533520" y="838080"/>
            <a:chExt cx="7848360" cy="5105520"/>
          </a:xfrm>
        </p:grpSpPr>
        <p:sp>
          <p:nvSpPr>
            <p:cNvPr id="86" name="AutoShape 7"/>
            <p:cNvSpPr/>
            <p:nvPr/>
          </p:nvSpPr>
          <p:spPr>
            <a:xfrm>
              <a:off x="533520" y="838080"/>
              <a:ext cx="784836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3499920" y="2450160"/>
              <a:ext cx="2295720" cy="174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3300"/>
                  </a:solidFill>
                  <a:latin typeface="Tahoma"/>
                </a:rPr>
                <a:t>Декоративно-ужиткове мистецтво – створення і оздоблення художніх виробів, що мають практичне призначення у побуті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6465960" y="2046960"/>
              <a:ext cx="19155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Витинанк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33520" y="4196880"/>
              <a:ext cx="19159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Гончарс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533520" y="2046960"/>
              <a:ext cx="19159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Писанкарс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6465960" y="3793320"/>
              <a:ext cx="19144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Флористик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6465960" y="3256920"/>
              <a:ext cx="19144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Батик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6465960" y="2584800"/>
              <a:ext cx="19144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Гравіюванн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533520" y="2719080"/>
              <a:ext cx="19159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Лозоплетінн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533520" y="3390120"/>
              <a:ext cx="19144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Ткац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1203480" y="5271120"/>
              <a:ext cx="191448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Керамік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3595680" y="1107000"/>
              <a:ext cx="19144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Куванн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3595680" y="5271120"/>
              <a:ext cx="1916640" cy="53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Декоративний розпис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Rectangle 20"/>
            <p:cNvSpPr/>
            <p:nvPr/>
          </p:nvSpPr>
          <p:spPr>
            <a:xfrm>
              <a:off x="5891760" y="5271120"/>
              <a:ext cx="191448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Художнє ли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Rectangle 21"/>
            <p:cNvSpPr/>
            <p:nvPr/>
          </p:nvSpPr>
          <p:spPr>
            <a:xfrm>
              <a:off x="5891760" y="1107000"/>
              <a:ext cx="20095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Художнє різьбленн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Rectangle 22"/>
            <p:cNvSpPr/>
            <p:nvPr/>
          </p:nvSpPr>
          <p:spPr>
            <a:xfrm>
              <a:off x="1203480" y="1107000"/>
              <a:ext cx="19123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Вишивк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465960" y="4465800"/>
              <a:ext cx="191340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3300"/>
                  </a:solidFill>
                  <a:latin typeface="Tahoma"/>
                </a:rPr>
                <a:t>Карбуванн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2446920" y="2315160"/>
              <a:ext cx="105264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>
              <a:off x="2446920" y="2988000"/>
              <a:ext cx="10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>
              <a:off x="2446920" y="3256920"/>
              <a:ext cx="1052640" cy="40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 flipV="1">
              <a:off x="5796720" y="2315160"/>
              <a:ext cx="66888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V="1">
              <a:off x="5796720" y="2718720"/>
              <a:ext cx="66888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>
              <a:off x="5796720" y="3524760"/>
              <a:ext cx="6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5796720" y="3793320"/>
              <a:ext cx="66888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H="1">
              <a:off x="2446920" y="3793320"/>
              <a:ext cx="1052640" cy="67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>
              <a:off x="2160000" y="4196880"/>
              <a:ext cx="191340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>
              <a:off x="4552200" y="4196880"/>
              <a:ext cx="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Line 34"/>
            <p:cNvSpPr/>
            <p:nvPr/>
          </p:nvSpPr>
          <p:spPr>
            <a:xfrm>
              <a:off x="5413320" y="4196880"/>
              <a:ext cx="105264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>
              <a:off x="5030640" y="4196880"/>
              <a:ext cx="143496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2160000" y="1510200"/>
              <a:ext cx="181764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V="1">
              <a:off x="4552200" y="151020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Line 38"/>
            <p:cNvSpPr/>
            <p:nvPr/>
          </p:nvSpPr>
          <p:spPr>
            <a:xfrm flipV="1">
              <a:off x="5222520" y="1510200"/>
              <a:ext cx="162684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Гуцульщ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88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Лі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</a:rPr>
              <a:t>Культура і побут населення України: Навч. посібн. / В. І. Наулко, Л. Ф. Артюх,            В. Ф. Горленко та ін. </a:t>
            </a:r>
            <a:r>
              <a:rPr b="0" lang="uk-UA" sz="3200" spc="-1" strike="noStrike">
                <a:solidFill>
                  <a:srgbClr val="ff3300"/>
                </a:solidFill>
                <a:latin typeface="Tahoma"/>
                <a:ea typeface="Tahoma"/>
              </a:rPr>
              <a:t>― К.: Либідь, 1991. ― 232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  <a:ea typeface="Tahoma"/>
              </a:rPr>
              <a:t>Українське народознавство: Навч. посібник / За ред. С. П. Павлюка, Г. Й. Горинь, Р. Ф. Кирчіва. ― Львів: Фенікс, 1994. ― 608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  <a:ea typeface="Tahoma"/>
              </a:rPr>
              <a:t>Художня культура. 9 клас: Тематичні розробки уроків / Л. М. Масол, О. В. Гайдамака. ― Х.: Ранок, 2009. ― 320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Лі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99072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</a:rPr>
              <a:t>Культура і побут населення України: Навч. посібн. / В. І. Наулко, Л. Ф. Артюх,            В. Ф. Горленко та ін. </a:t>
            </a:r>
            <a:r>
              <a:rPr b="0" lang="uk-UA" sz="3200" spc="-1" strike="noStrike">
                <a:solidFill>
                  <a:srgbClr val="ff3300"/>
                </a:solidFill>
                <a:latin typeface="Tahoma"/>
                <a:ea typeface="Tahoma"/>
              </a:rPr>
              <a:t>― К.: Либідь, 1991. ― 232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  <a:ea typeface="Tahoma"/>
              </a:rPr>
              <a:t>Українське народознавство: Навч. посібник / За ред. С. П. Павлюка, Г. Й. Горинь, Р. Ф. Кирчіва. ― Львів: Фенікс, 1994. ― 608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  <a:ea typeface="Tahoma"/>
              </a:rPr>
              <a:t>Художня культура. 9 клас: Тематичні розробки уроків / Л. М. Масол, О. В. Гайдамака. ― Х.: Ранок, 2009. ― 320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Tahoma"/>
              </a:rPr>
              <a:t>Гончар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Гончарство – виготовлення з опаленої глини різноманітних виробів, зокрема посуду, кахлів, іграшок. Глина є дуже м’яким та еластичним матеріалом під час роботи і достатньо міцним після випалювання. Це мистецтво нараховує близько 8 тис. рок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/>
          <a:srcRect l="0" t="25346" r="44267" b="11541"/>
          <a:stretch/>
        </p:blipFill>
        <p:spPr>
          <a:xfrm>
            <a:off x="4572000" y="762120"/>
            <a:ext cx="4218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ahoma"/>
              </a:rPr>
              <a:t>Художнє ли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удожнє литво – виготовлення різноманітних виробів із скла. Майстрів цієї справи називали “гутниками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rcRect l="9572" t="3272" r="11747" b="2466"/>
          <a:stretch/>
        </p:blipFill>
        <p:spPr>
          <a:xfrm>
            <a:off x="304920" y="2017800"/>
            <a:ext cx="4952880" cy="432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2"/>
          <a:srcRect l="3353" t="0" r="0" b="0"/>
          <a:stretch/>
        </p:blipFill>
        <p:spPr>
          <a:xfrm>
            <a:off x="5562720" y="2057400"/>
            <a:ext cx="33130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Художнє різьбле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удожнє різьблення – прикрашання дерев’яних побутових речей шляхом різьблення чи випилювання на них певних узорів, надання їм певних форм (напр. ручка ложки у формі голови звіра). «Канавки», які утворюються на предметах могли заповнюватися фарб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rcRect l="0" t="21505" r="0" b="0"/>
          <a:stretch/>
        </p:blipFill>
        <p:spPr>
          <a:xfrm>
            <a:off x="228600" y="2971800"/>
            <a:ext cx="3994200" cy="338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rcRect l="3487" t="4406" r="2008" b="6883"/>
          <a:stretch/>
        </p:blipFill>
        <p:spPr>
          <a:xfrm>
            <a:off x="4343400" y="2666880"/>
            <a:ext cx="464832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ahoma"/>
              </a:rPr>
              <a:t>Лозоплетін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Лозоплетіння – виготовлення з лози кошиків, стільців та інших меблів і предметів побу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0" t="-116" r="0" b="0"/>
          <a:stretch/>
        </p:blipFill>
        <p:spPr>
          <a:xfrm>
            <a:off x="533520" y="1676520"/>
            <a:ext cx="3886200" cy="258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rcRect l="0" t="0" r="69438" b="40700"/>
          <a:stretch/>
        </p:blipFill>
        <p:spPr>
          <a:xfrm>
            <a:off x="4876920" y="2590920"/>
            <a:ext cx="4032000" cy="34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38098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Декоративний розпи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екоративний розпис – давній український розпис дерев’яних побутових предметів: скринь, мисок, ложок, мисників, саней, упряжі, іграшок. Декоративний розпис бере початок із розпису стін дерев’яних церков в часи Київської Рус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Частиною декоративного розпису є розпис стін мазанки, печі, візерунки на вікн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ahoma"/>
              </a:rPr>
              <a:t>Декоративний розпи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rcRect l="0" t="7444" r="51792" b="32727"/>
          <a:stretch/>
        </p:blipFill>
        <p:spPr>
          <a:xfrm>
            <a:off x="990720" y="750960"/>
            <a:ext cx="73911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ahoma"/>
              </a:rPr>
              <a:t>Декоративний розпи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53311" t="8584" r="751" b="38385"/>
          <a:stretch/>
        </p:blipFill>
        <p:spPr>
          <a:xfrm>
            <a:off x="228600" y="838080"/>
            <a:ext cx="876312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06T11:52:4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