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70D5-1109-478B-8DE3-879EB1A4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0655-A8C5-4FF4-BD0C-33E67B23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0C8-DFF3-464A-A182-19D91971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B11A-7F17-4C98-BE7E-D3E738BC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11EA-4D70-4E51-8A4E-1C36FC04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227-865A-4777-97AE-835DC602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E81-9D8D-48FC-B85C-4D6C07D6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C98-8B8F-4D2F-A375-A15CB565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F79-F8B0-47DA-8402-E058CA1A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BC4-361E-4626-BAC3-A6558B2E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F4D-B28F-40DE-B031-B73FB58F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C63-7C4E-4E98-ADEA-C0172F32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1CBA-AF37-49C8-A7A9-708C66B8BF74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іністерство освіти і науки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Изображение 5" descr="Знімок екрана 2016-08-17 о 18.16.47.png"/>
          <p:cNvPicPr/>
          <p:nvPr/>
        </p:nvPicPr>
        <p:blipFill>
          <a:blip r:embed="rId1"/>
          <a:stretch/>
        </p:blipFill>
        <p:spPr>
          <a:xfrm>
            <a:off x="395280" y="2060640"/>
            <a:ext cx="8353440" cy="4456080"/>
          </a:xfrm>
          <a:prstGeom prst="rect">
            <a:avLst/>
          </a:prstGeom>
          <a:ln w="0">
            <a:noFill/>
          </a:ln>
        </p:spPr>
      </p:pic>
      <p:pic>
        <p:nvPicPr>
          <p:cNvPr id="43" name="Изображение 6" descr="Знімок екрана 2016-08-17 о 18.17.23.png"/>
          <p:cNvPicPr/>
          <p:nvPr/>
        </p:nvPicPr>
        <p:blipFill>
          <a:blip r:embed="rId2"/>
          <a:stretch/>
        </p:blipFill>
        <p:spPr>
          <a:xfrm>
            <a:off x="3276720" y="1484280"/>
            <a:ext cx="2663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92" name="Заголовок 1"/>
          <p:cNvSpPr/>
          <p:nvPr/>
        </p:nvSpPr>
        <p:spPr>
          <a:xfrm>
            <a:off x="2124000" y="55440"/>
            <a:ext cx="7020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«Канва» розвитку уч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244600" y="1049400"/>
            <a:ext cx="6624720" cy="5597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"/>
          <p:cNvPicPr/>
          <p:nvPr/>
        </p:nvPicPr>
        <p:blipFill>
          <a:blip r:embed="rId4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едагогіка партнерст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вмісту 2"/>
          <p:cNvSpPr/>
          <p:nvPr/>
        </p:nvSpPr>
        <p:spPr>
          <a:xfrm>
            <a:off x="2484360" y="1341360"/>
            <a:ext cx="63356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Нова школа працюватиме на засадах «педагогіки партнерства»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Основні принципи цього підходу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повага до особистості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оброзичливість і позитивне ставлен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овіра у відносинах та стосунк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діалог-взаємодія-взаємоповаг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розподілене лідерство (проактивність, право вибору та відповідальність за нього, горизонтальність зв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яз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ків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7793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принципи соціального партнерства (рівність сторін, добровільність прийняття зобов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язань, обов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`</a:t>
            </a: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язковість виконання домовленост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2141640" y="24624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мотивований вчи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вмісту 2"/>
          <p:cNvSpPr/>
          <p:nvPr/>
        </p:nvSpPr>
        <p:spPr>
          <a:xfrm>
            <a:off x="2502000" y="1611360"/>
            <a:ext cx="6335640" cy="45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!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країнська школа буде успішною, якщо до неї прийде успішний учит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Суттєвих змін зазнає процес і зміст підготовки вчите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Велика увага буде приділятися матеріальному стимулюванню учител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07" name="Заголовок 1"/>
          <p:cNvSpPr/>
          <p:nvPr/>
        </p:nvSpPr>
        <p:spPr>
          <a:xfrm>
            <a:off x="2141640" y="24624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Орієнтація на учня. Виховання на цінностях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вмісту 2"/>
          <p:cNvSpPr/>
          <p:nvPr/>
        </p:nvSpPr>
        <p:spPr>
          <a:xfrm>
            <a:off x="2502000" y="1611360"/>
            <a:ext cx="6335640" cy="45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На практиці реалізовуватиметься принцип дитиноцентриз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Усе життя нової школи буде організовано за моделлю поваги до прав людини та демократії. Нова школа плекатиму українську ідентичні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Автономія шк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4"/>
          <a:stretch/>
        </p:blipFill>
        <p:spPr>
          <a:xfrm>
            <a:off x="2411280" y="1557360"/>
            <a:ext cx="3184560" cy="4579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5"/>
          <a:stretch/>
        </p:blipFill>
        <p:spPr>
          <a:xfrm>
            <a:off x="5761080" y="1601640"/>
            <a:ext cx="32083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Справедливий доступ і фінансуванн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124000" y="1844280"/>
            <a:ext cx="65628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ублічні фінанси будуть розподілятись прозо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Для забезпечення свободи вибору в освіті буде запроваджено принцип «гроші ходять за дитино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Опорні школи – якісна освіта для дітей на сел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2124000" y="18900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труктура нової шк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160360" y="1630080"/>
            <a:ext cx="7019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. Початкова школа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– 4 р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-2 класи – 1 цикл, 3-4 класи – 2 цик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І. Базова середня школа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гімназія)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 рокі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-6 класи – 1 цикл, 7-9 класи -2 цик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ІІІ. Профільна середня школа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– 3 ро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0 клас – 1 цикл, 11-12 класи – 2 цик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Академічного спрямування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- ліц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офесійного спрямування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– професійний ліцей, професійний коледж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28" name="Заголовок 1"/>
          <p:cNvSpPr/>
          <p:nvPr/>
        </p:nvSpPr>
        <p:spPr>
          <a:xfrm>
            <a:off x="2111400" y="115920"/>
            <a:ext cx="70200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труктура нової шк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4"/>
          <a:stretch/>
        </p:blipFill>
        <p:spPr>
          <a:xfrm>
            <a:off x="2268360" y="836640"/>
            <a:ext cx="673452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133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Графік впровадження реформ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2124000" y="1755720"/>
            <a:ext cx="7020000" cy="43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2018 – діти підуть в перший клас Нової шко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2016-2018 – І фаза  (підготовка реформи, початок роботи початкової  школи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2019-2022 – ІІ фаз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ідготовка реформи, початок роботи базової  школи </a:t>
            </a: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Calibri"/>
              </a:rPr>
              <a:t>2023-2029 – ІІІ фаз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ідготовка реформи, початок роботи профільної школи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2016000" y="765000"/>
            <a:ext cx="702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700" spc="-1" strike="noStrike">
                <a:solidFill>
                  <a:srgbClr val="000000"/>
                </a:solidFill>
                <a:latin typeface="Calibri"/>
              </a:rPr>
              <a:t>З повним текстом Концепції можна ознайомитися на сайті МОН у розділі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700" spc="-1" strike="noStrike">
                <a:solidFill>
                  <a:srgbClr val="000000"/>
                </a:solidFill>
                <a:latin typeface="Calibri"/>
              </a:rPr>
              <a:t>«Нова українська школа»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45" name="Заголовок 1"/>
          <p:cNvSpPr/>
          <p:nvPr/>
        </p:nvSpPr>
        <p:spPr>
          <a:xfrm>
            <a:off x="2146320" y="11592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Учасники процес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Місце для вмісту 2"/>
          <p:cNvSpPr/>
          <p:nvPr/>
        </p:nvSpPr>
        <p:spPr>
          <a:xfrm>
            <a:off x="2268360" y="1341360"/>
            <a:ext cx="6685200" cy="50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ублічний діалог щодо стратегії змін в освіті України на майданчику парламентського Комітету з питань науки і осві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 основу покладені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Проект Закону Про осві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нцепція середньої загальноосвітньої школи України»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Національної академії педагогічних наук України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нцепція розвитку освіти України на період 2015-2025 років», підготовлена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Стратегічною дорадчою групою «Освіта»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в рамках спільного проекту Міжнародного фонду «Відродження» та БФ «Інститут розвитку освіти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«Візія нової української школи», підготовлена спільнотою відповідального вчительства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DCamp Ukraine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есятки експертних дискусій та 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фокус-групи і залученням представників різних цільових аудиторій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– учнів, вчителів, батьків, директорів шкіл, представників районних управлінь освіти, громадських організаці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2340000" y="274680"/>
            <a:ext cx="68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Чому треба змінювати школу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ісце для вмісту 2"/>
          <p:cNvSpPr/>
          <p:nvPr/>
        </p:nvSpPr>
        <p:spPr>
          <a:xfrm>
            <a:off x="2268360" y="5732640"/>
            <a:ext cx="655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124000" y="1682640"/>
            <a:ext cx="6964560" cy="31863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вмісту 2"/>
          <p:cNvSpPr/>
          <p:nvPr/>
        </p:nvSpPr>
        <p:spPr>
          <a:xfrm>
            <a:off x="1917720" y="5845320"/>
            <a:ext cx="72262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ТРІБНА ДОКОРІННА РЕФОРМ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2104920" y="455436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3"/>
          <a:stretch/>
        </p:blipFill>
        <p:spPr>
          <a:xfrm>
            <a:off x="1908000" y="4873680"/>
            <a:ext cx="924120" cy="11476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4" descr=""/>
          <p:cNvPicPr/>
          <p:nvPr/>
        </p:nvPicPr>
        <p:blipFill>
          <a:blip r:embed="rId4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"/>
          <p:cNvPicPr/>
          <p:nvPr/>
        </p:nvPicPr>
        <p:blipFill>
          <a:blip r:embed="rId5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Яким має бути випускник школи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152800" y="1658880"/>
            <a:ext cx="3093840" cy="457848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вмісту 2"/>
          <p:cNvSpPr/>
          <p:nvPr/>
        </p:nvSpPr>
        <p:spPr>
          <a:xfrm>
            <a:off x="5435640" y="1557360"/>
            <a:ext cx="351144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Освічені українці, всебічно розвинені, відповідальні громадяни і патріоти, здатні до інноваці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ОСЬ ХТО ПОВЕДЕ УКРАЇНСЬКУ ЕКОНОМІКУ ВПЕРЕД У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XXI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ОЛ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ІТТІ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7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" descr=""/>
          <p:cNvPicPr/>
          <p:nvPr/>
        </p:nvPicPr>
        <p:blipFill>
          <a:blip r:embed="rId4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Формула нової шко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Місце для вмісту 3" descr=""/>
          <p:cNvPicPr/>
          <p:nvPr/>
        </p:nvPicPr>
        <p:blipFill>
          <a:blip r:embed="rId2"/>
          <a:stretch/>
        </p:blipFill>
        <p:spPr>
          <a:xfrm>
            <a:off x="2062080" y="1698480"/>
            <a:ext cx="6973920" cy="4178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" descr=""/>
          <p:cNvPicPr/>
          <p:nvPr/>
        </p:nvPicPr>
        <p:blipFill>
          <a:blip r:embed="rId4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"/>
          <p:cNvSpPr/>
          <p:nvPr/>
        </p:nvSpPr>
        <p:spPr>
          <a:xfrm>
            <a:off x="2124000" y="35712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8-м ключових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компонентів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вмісту 2"/>
          <p:cNvSpPr/>
          <p:nvPr/>
        </p:nvSpPr>
        <p:spPr>
          <a:xfrm>
            <a:off x="2122560" y="1628640"/>
            <a:ext cx="3403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1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овий зміст освіти, заснований на формуванні компетентностей, необхідних для успішної самореалізації в суспільств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2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отивований учитель, який має свободу творчості й розвивається професій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3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скрізний процес виховання, який формує цінност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4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ецентралізація та ефективне управління, що надасть школі реальну автономі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вмісту 2"/>
          <p:cNvSpPr/>
          <p:nvPr/>
        </p:nvSpPr>
        <p:spPr>
          <a:xfrm>
            <a:off x="5526000" y="1628640"/>
            <a:ext cx="358308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5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едагогіка, що ґрунтується на партнерстві між учнем, учителем і батьк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6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Орієнтація на потреби учня в освітньому процесі, дитиноцентриз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7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ова структура школи, яка дозволяє добре засвоїти новий зміст і набути компетентності для житт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8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раведливий розподіл публічних коштів, який забезпечує рівний доступ усіх дітей до якісної осві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000000"/>
                </a:solidFill>
                <a:latin typeface="Calibri"/>
              </a:rPr>
              <a:t>Ключові компетентності для житт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2244600" y="1916280"/>
            <a:ext cx="6575400" cy="4149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" descr=""/>
          <p:cNvPicPr/>
          <p:nvPr/>
        </p:nvPicPr>
        <p:blipFill>
          <a:blip r:embed="rId4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5" descr=""/>
          <p:cNvPicPr/>
          <p:nvPr/>
        </p:nvPicPr>
        <p:blipFill>
          <a:blip r:embed="rId1"/>
          <a:stretch/>
        </p:blipFill>
        <p:spPr>
          <a:xfrm>
            <a:off x="1908000" y="6622920"/>
            <a:ext cx="7236000" cy="4608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Що таке компетентності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вмісту 2"/>
          <p:cNvSpPr/>
          <p:nvPr/>
        </p:nvSpPr>
        <p:spPr>
          <a:xfrm>
            <a:off x="2484360" y="1538280"/>
            <a:ext cx="63356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libri"/>
              </a:rPr>
              <a:t>Компетентності - це динамічна комбінація знань, умінь, цінностей та ставлень на їхній основі, які визначають здатність ОСОБИ успішно вирішувати життєві проблеми, провадити професійну і подальшу навчальну діяльні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Перелік компетентностей  грунтується на «Рекомендаціях Європейського Парламенту та Ради Європи щодо формування ключових компетентностей ціложиттєвої освіти» (18.12.2006), але не обмежуватимуться ни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5" descr=""/>
          <p:cNvPicPr/>
          <p:nvPr/>
        </p:nvPicPr>
        <p:blipFill>
          <a:blip r:embed="rId1"/>
          <a:stretch/>
        </p:blipFill>
        <p:spPr>
          <a:xfrm>
            <a:off x="1873080" y="6600960"/>
            <a:ext cx="7237440" cy="4608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1"/>
          <p:cNvSpPr/>
          <p:nvPr/>
        </p:nvSpPr>
        <p:spPr>
          <a:xfrm>
            <a:off x="2124000" y="274680"/>
            <a:ext cx="702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10 ключових компетентносте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для нової української шко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вмісту 2"/>
          <p:cNvSpPr/>
          <p:nvPr/>
        </p:nvSpPr>
        <p:spPr>
          <a:xfrm>
            <a:off x="2122560" y="2133720"/>
            <a:ext cx="3403440" cy="44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1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ілкування державною (і рідною у разі відмінності) мов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2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пілкування іноземними мов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3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атематична грамот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4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омпетентності в природничих науках і технологі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5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нформаційно-цифрова компетент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вмісту 2"/>
          <p:cNvSpPr/>
          <p:nvPr/>
        </p:nvSpPr>
        <p:spPr>
          <a:xfrm>
            <a:off x="5632560" y="2133720"/>
            <a:ext cx="333216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6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міння вчитися впродовж житт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7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оціальні і громадянські компетентност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8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ідприємлив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09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агальнокультурна грамотніс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9900"/>
                </a:solidFill>
                <a:latin typeface="Calibri"/>
              </a:rPr>
              <a:t>/10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Екологічна грамотність і здорове житт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7" descr=""/>
          <p:cNvPicPr/>
          <p:nvPr/>
        </p:nvPicPr>
        <p:blipFill>
          <a:blip r:embed="rId2"/>
          <a:stretch/>
        </p:blipFill>
        <p:spPr>
          <a:xfrm>
            <a:off x="0" y="0"/>
            <a:ext cx="1908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" descr=""/>
          <p:cNvPicPr/>
          <p:nvPr/>
        </p:nvPicPr>
        <p:blipFill>
          <a:blip r:embed="rId3"/>
          <a:stretch/>
        </p:blipFill>
        <p:spPr>
          <a:xfrm>
            <a:off x="0" y="549360"/>
            <a:ext cx="212400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1:30:32Z</dcterms:created>
  <dc:creator>Sara Yasmeen (Wipro Technologies)</dc:creator>
  <dc:description/>
  <dc:language>en-US</dc:language>
  <cp:lastModifiedBy>User</cp:lastModifiedBy>
  <cp:lastPrinted>2016-08-22T07:05:17Z</cp:lastPrinted>
  <dcterms:modified xsi:type="dcterms:W3CDTF">2017-02-21T22:26:00Z</dcterms:modified>
  <cp:revision>91</cp:revision>
  <dc:subject/>
  <dc:title>Презентація PowerPoint</dc:title>
</cp:coreProperties>
</file>