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F590-1BD2-4BF9-AD38-F90FC167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902C-3020-43AA-86FF-8407FBC0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4BD-7475-44D9-BA2D-51B93D9E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B4C1-166A-4655-BBD4-CB95822B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E194-C993-4200-9874-C872D256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F3DD-724B-4D08-83C5-45793FD5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150E-7EA2-467A-946D-F25CA3EE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0909-D396-4B4F-BA26-F3AC586A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14BE-8C6E-4F90-AE8E-8BE1222A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45B1-ACDC-4E47-9233-D6AE166A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15D0-4135-43B4-A922-8376C666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19BE-F99A-44E6-8EC5-1C32D236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6231-DCFE-4B1B-8151-28C67C5E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493B-2591-43F6-9C61-82C38933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7C62-6AB9-4BA1-AF27-22ABD177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C2D9-5AB3-402D-BE5D-2D57A9D8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A517-8AEC-4656-92ED-03F3A8B2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D19-AA67-467C-8963-33415436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297-B1CD-4645-B3B8-8889F93D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F07-59DE-4C22-B4F8-01813660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75D-EE7E-43E5-A357-45D6CFD1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FD0-A019-4151-8093-201D6E77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C1BC-91BF-4152-B164-7F0480C8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5D0-3337-48E5-A3D0-1076B625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8692-F17D-4FF6-9318-F1CD48EBEA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656D-3AC2-49E4-AB26-9C07B6D31B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4" descr=""/>
          <p:cNvPicPr/>
          <p:nvPr/>
        </p:nvPicPr>
        <p:blipFill>
          <a:blip r:embed="rId1"/>
          <a:stretch/>
        </p:blipFill>
        <p:spPr>
          <a:xfrm>
            <a:off x="173160" y="1473120"/>
            <a:ext cx="2608200" cy="79236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792000" y="3078000"/>
            <a:ext cx="7772400" cy="2779920"/>
          </a:xfrm>
          <a:prstGeom prst="rect">
            <a:avLst/>
          </a:prstGeom>
          <a:ln w="0">
            <a:noFill/>
          </a:ln>
        </p:spPr>
      </p:pic>
      <p:pic>
        <p:nvPicPr>
          <p:cNvPr id="84" name="Заголовок 1" descr=""/>
          <p:cNvPicPr/>
          <p:nvPr/>
        </p:nvPicPr>
        <p:blipFill>
          <a:blip r:embed="rId3"/>
          <a:stretch/>
        </p:blipFill>
        <p:spPr>
          <a:xfrm>
            <a:off x="865080" y="5797440"/>
            <a:ext cx="77724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198360" y="6311880"/>
            <a:ext cx="1451160" cy="441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2593800" y="682560"/>
            <a:ext cx="655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Мета змі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Схема 11" descr=""/>
          <p:cNvPicPr/>
          <p:nvPr/>
        </p:nvPicPr>
        <p:blipFill>
          <a:blip r:embed="rId2"/>
          <a:stretch/>
        </p:blipFill>
        <p:spPr>
          <a:xfrm>
            <a:off x="2597040" y="2346480"/>
            <a:ext cx="4437000" cy="26589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7"/>
          <p:cNvGrpSpPr/>
          <p:nvPr/>
        </p:nvGrpSpPr>
        <p:grpSpPr>
          <a:xfrm>
            <a:off x="397080" y="601560"/>
            <a:ext cx="697680" cy="685800"/>
            <a:chOff x="397080" y="601560"/>
            <a:chExt cx="697680" cy="685800"/>
          </a:xfrm>
        </p:grpSpPr>
        <p:sp>
          <p:nvSpPr>
            <p:cNvPr id="89" name="Rectangle 9"/>
            <p:cNvSpPr/>
            <p:nvPr/>
          </p:nvSpPr>
          <p:spPr>
            <a:xfrm rot="3418800">
              <a:off x="506160" y="68364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Text Box 11"/>
            <p:cNvSpPr/>
            <p:nvPr/>
          </p:nvSpPr>
          <p:spPr>
            <a:xfrm>
              <a:off x="564480" y="7268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"/>
          <p:cNvSpPr txBox="1"/>
          <p:nvPr/>
        </p:nvSpPr>
        <p:spPr>
          <a:xfrm>
            <a:off x="2565000" y="1690560"/>
            <a:ext cx="640404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ерехід від знаннєвої парадигми до компетентністно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дання свободи у діяльності в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Розвиток зацікавлення і підвищення мотивації учнів у навчанн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вага до гідності учня, створення умов для саморозвитку і самовираження учн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ідготовка та апробація змін до реформи початкової школи 2018 ро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198360" y="6311880"/>
            <a:ext cx="1451160" cy="441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0"/>
          <p:cNvSpPr/>
          <p:nvPr/>
        </p:nvSpPr>
        <p:spPr>
          <a:xfrm>
            <a:off x="2593800" y="544680"/>
            <a:ext cx="62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Основні засади змі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хема 11" descr=""/>
          <p:cNvPicPr/>
          <p:nvPr/>
        </p:nvPicPr>
        <p:blipFill>
          <a:blip r:embed="rId2"/>
          <a:stretch/>
        </p:blipFill>
        <p:spPr>
          <a:xfrm>
            <a:off x="2597040" y="2346480"/>
            <a:ext cx="4437000" cy="26589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7"/>
          <p:cNvGrpSpPr/>
          <p:nvPr/>
        </p:nvGrpSpPr>
        <p:grpSpPr>
          <a:xfrm>
            <a:off x="397080" y="601560"/>
            <a:ext cx="697680" cy="685800"/>
            <a:chOff x="397080" y="601560"/>
            <a:chExt cx="697680" cy="685800"/>
          </a:xfrm>
        </p:grpSpPr>
        <p:sp>
          <p:nvSpPr>
            <p:cNvPr id="96" name="Rectangle 9"/>
            <p:cNvSpPr/>
            <p:nvPr/>
          </p:nvSpPr>
          <p:spPr>
            <a:xfrm rot="3418800">
              <a:off x="506160" y="68364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564480" y="7268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2706480" y="1441440"/>
            <a:ext cx="643716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Зміна цілей навчання, а не стандартів навчанн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Зміна підходів у навчанні, а не результатів навчанн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Отж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Стандарт початкової освіти не змінив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Результати навчальних досягнень залишилися ті самі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Перелік предметів теж не змінив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Внесені деяку зміни до програм, методичних рекомендацій та критеріїв оцінюванн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98360" y="6311880"/>
            <a:ext cx="1451160" cy="441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2593800" y="357120"/>
            <a:ext cx="61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Інструмент змін - спільний проект МОН т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d-Era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хема 11" descr=""/>
          <p:cNvPicPr/>
          <p:nvPr/>
        </p:nvPicPr>
        <p:blipFill>
          <a:blip r:embed="rId2"/>
          <a:stretch/>
        </p:blipFill>
        <p:spPr>
          <a:xfrm>
            <a:off x="2597040" y="2346480"/>
            <a:ext cx="4437000" cy="265896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7"/>
          <p:cNvGrpSpPr/>
          <p:nvPr/>
        </p:nvGrpSpPr>
        <p:grpSpPr>
          <a:xfrm>
            <a:off x="397080" y="601560"/>
            <a:ext cx="697680" cy="685800"/>
            <a:chOff x="397080" y="601560"/>
            <a:chExt cx="697680" cy="685800"/>
          </a:xfrm>
        </p:grpSpPr>
        <p:sp>
          <p:nvSpPr>
            <p:cNvPr id="103" name="Rectangle 9"/>
            <p:cNvSpPr/>
            <p:nvPr/>
          </p:nvSpPr>
          <p:spPr>
            <a:xfrm rot="3418800">
              <a:off x="506160" y="68364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564480" y="7268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" name=""/>
          <p:cNvSpPr txBox="1"/>
          <p:nvPr/>
        </p:nvSpPr>
        <p:spPr>
          <a:xfrm>
            <a:off x="2504880" y="1828440"/>
            <a:ext cx="6438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глянути у стислі терміни програми початкової шко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лучити максимальну кількість активних вчителів-практи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емонструвати, що пропозиції експертів і громадськості будуть врахован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стосувати он-лайн технології для обробки великих масивів інформаці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будувати довіру між освітянами та М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198360" y="6311880"/>
            <a:ext cx="1451160" cy="441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0"/>
          <p:cNvSpPr/>
          <p:nvPr/>
        </p:nvSpPr>
        <p:spPr>
          <a:xfrm>
            <a:off x="2593800" y="682560"/>
            <a:ext cx="61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алізація проек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Схема 11" descr=""/>
          <p:cNvPicPr/>
          <p:nvPr/>
        </p:nvPicPr>
        <p:blipFill>
          <a:blip r:embed="rId2"/>
          <a:stretch/>
        </p:blipFill>
        <p:spPr>
          <a:xfrm>
            <a:off x="2597040" y="2346480"/>
            <a:ext cx="4437000" cy="265896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397080" y="601560"/>
            <a:ext cx="697680" cy="685800"/>
            <a:chOff x="397080" y="601560"/>
            <a:chExt cx="697680" cy="685800"/>
          </a:xfrm>
        </p:grpSpPr>
        <p:sp>
          <p:nvSpPr>
            <p:cNvPr id="110" name="Rectangle 9"/>
            <p:cNvSpPr/>
            <p:nvPr/>
          </p:nvSpPr>
          <p:spPr>
            <a:xfrm rot="3418800">
              <a:off x="506160" y="68364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11"/>
            <p:cNvSpPr/>
            <p:nvPr/>
          </p:nvSpPr>
          <p:spPr>
            <a:xfrm>
              <a:off x="564480" y="7268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"/>
          <p:cNvSpPr txBox="1"/>
          <p:nvPr/>
        </p:nvSpPr>
        <p:spPr>
          <a:xfrm>
            <a:off x="2504880" y="1654200"/>
            <a:ext cx="66387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87200" indent="-18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дійснено у стислі терміни  (червень-липень 201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а конкурсом он-лайн заяв відібрано 20 модераторі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два етапи обговорення - опрацьова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236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коментарів ві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4015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учасни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ільшість коментарів на ЕдЕрі – слушні конструктивні пропозиції саме від вчителів-практи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півпраця з науковими консультантами НАПН Украї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7200" indent="-18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198360" y="6311880"/>
            <a:ext cx="1451160" cy="441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"/>
          <p:cNvSpPr/>
          <p:nvPr/>
        </p:nvSpPr>
        <p:spPr>
          <a:xfrm>
            <a:off x="2593800" y="495360"/>
            <a:ext cx="61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Результати проект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хема 11" descr=""/>
          <p:cNvPicPr/>
          <p:nvPr/>
        </p:nvPicPr>
        <p:blipFill>
          <a:blip r:embed="rId2"/>
          <a:stretch/>
        </p:blipFill>
        <p:spPr>
          <a:xfrm>
            <a:off x="2597040" y="2346480"/>
            <a:ext cx="4437000" cy="265896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"/>
          <p:cNvGrpSpPr/>
          <p:nvPr/>
        </p:nvGrpSpPr>
        <p:grpSpPr>
          <a:xfrm>
            <a:off x="397080" y="601560"/>
            <a:ext cx="697680" cy="685800"/>
            <a:chOff x="397080" y="601560"/>
            <a:chExt cx="697680" cy="685800"/>
          </a:xfrm>
        </p:grpSpPr>
        <p:sp>
          <p:nvSpPr>
            <p:cNvPr id="117" name="Rectangle 9"/>
            <p:cNvSpPr/>
            <p:nvPr/>
          </p:nvSpPr>
          <p:spPr>
            <a:xfrm rot="3418800">
              <a:off x="506160" y="68364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11"/>
            <p:cNvSpPr/>
            <p:nvPr/>
          </p:nvSpPr>
          <p:spPr>
            <a:xfrm>
              <a:off x="564480" y="7268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2504880" y="1290240"/>
            <a:ext cx="651348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идал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 програм зайву інформаці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сунено дублюв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оведено відбір найбільш важливих тем та їхній логічний викла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апроваджено компетентністний підхі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міни внесені у 13 програм 1-4 класів: українською мовою навч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Особлива увага приділена створенню умов для вивчення і засвоєння ядра знань з математики, української мови та іноземної мов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198360" y="6311880"/>
            <a:ext cx="1451160" cy="441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0"/>
          <p:cNvSpPr/>
          <p:nvPr/>
        </p:nvSpPr>
        <p:spPr>
          <a:xfrm>
            <a:off x="2593800" y="444600"/>
            <a:ext cx="61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Впровадження змі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хема 11" descr=""/>
          <p:cNvPicPr/>
          <p:nvPr/>
        </p:nvPicPr>
        <p:blipFill>
          <a:blip r:embed="rId2"/>
          <a:stretch/>
        </p:blipFill>
        <p:spPr>
          <a:xfrm>
            <a:off x="3200400" y="3151080"/>
            <a:ext cx="4438800" cy="26528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7"/>
          <p:cNvGrpSpPr/>
          <p:nvPr/>
        </p:nvGrpSpPr>
        <p:grpSpPr>
          <a:xfrm>
            <a:off x="397080" y="601560"/>
            <a:ext cx="697680" cy="685800"/>
            <a:chOff x="397080" y="601560"/>
            <a:chExt cx="697680" cy="685800"/>
          </a:xfrm>
        </p:grpSpPr>
        <p:sp>
          <p:nvSpPr>
            <p:cNvPr id="124" name="Rectangle 9"/>
            <p:cNvSpPr/>
            <p:nvPr/>
          </p:nvSpPr>
          <p:spPr>
            <a:xfrm rot="3418800">
              <a:off x="506160" y="68364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564480" y="7268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"/>
          <p:cNvSpPr txBox="1"/>
          <p:nvPr/>
        </p:nvSpPr>
        <p:spPr>
          <a:xfrm>
            <a:off x="2579400" y="1341000"/>
            <a:ext cx="6513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Видано накази МОН про внесення змін у програми і критерії оцінюванн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Скеровано листа до шкіл про нові методичні рекомендації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Проведено 11 серпня 2016 р. нараду у МОН з методистами початкових класів обласних інститутів післядипломної педагогічної освіт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Необхідно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Обговорити зміни на серпневих вчительських конференція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Провести обговорення на районних методичних об'єднаннях вчителів початкових класі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Запровадити в школах з 1 вересня 2016 рок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Розмістити додаткові навчальні матеріали на відкритій інтернет-платформі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198360" y="6311880"/>
            <a:ext cx="1451160" cy="441360"/>
          </a:xfrm>
          <a:prstGeom prst="rect">
            <a:avLst/>
          </a:prstGeom>
          <a:ln w="0">
            <a:noFill/>
          </a:ln>
        </p:spPr>
      </p:pic>
      <p:pic>
        <p:nvPicPr>
          <p:cNvPr id="128" name="Схема 11" descr=""/>
          <p:cNvPicPr/>
          <p:nvPr/>
        </p:nvPicPr>
        <p:blipFill>
          <a:blip r:embed="rId2"/>
          <a:stretch/>
        </p:blipFill>
        <p:spPr>
          <a:xfrm>
            <a:off x="2597040" y="2346480"/>
            <a:ext cx="4437000" cy="265896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397080" y="601560"/>
            <a:ext cx="697680" cy="685800"/>
            <a:chOff x="397080" y="601560"/>
            <a:chExt cx="697680" cy="685800"/>
          </a:xfrm>
        </p:grpSpPr>
        <p:sp>
          <p:nvSpPr>
            <p:cNvPr id="130" name="Rectangle 9"/>
            <p:cNvSpPr/>
            <p:nvPr/>
          </p:nvSpPr>
          <p:spPr>
            <a:xfrm rot="3418800">
              <a:off x="506160" y="68364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475e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564480" y="7268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"/>
          <p:cNvSpPr txBox="1"/>
          <p:nvPr/>
        </p:nvSpPr>
        <p:spPr>
          <a:xfrm>
            <a:off x="2781000" y="689040"/>
            <a:ext cx="627516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ект оновлення програм початкової школи – крок до повного оновлення стандартів середньої освіти, які будуть запроваджені з 2018 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оріть пілотні проект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ирайтися на інноваційних вчителів початкової школи, які вже працюють за компетентнісним підход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іліться досвідом і матеріал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удьте активні і відповідальн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3560" y="5153040"/>
            <a:ext cx="784224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f4e79"/>
                </a:solidFill>
                <a:latin typeface="Calibri"/>
              </a:rPr>
              <a:t>Заступник міністра освіти і науки Украї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e79"/>
                </a:solidFill>
                <a:latin typeface="Calibri"/>
              </a:rPr>
              <a:t>Павло Хобз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Заголовок 3" descr=""/>
          <p:cNvPicPr/>
          <p:nvPr/>
        </p:nvPicPr>
        <p:blipFill>
          <a:blip r:embed="rId1"/>
          <a:stretch/>
        </p:blipFill>
        <p:spPr>
          <a:xfrm>
            <a:off x="731880" y="3408480"/>
            <a:ext cx="7772400" cy="16700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"/>
          <p:cNvPicPr/>
          <p:nvPr/>
        </p:nvPicPr>
        <p:blipFill>
          <a:blip r:embed="rId2"/>
          <a:stretch/>
        </p:blipFill>
        <p:spPr>
          <a:xfrm>
            <a:off x="173160" y="1473120"/>
            <a:ext cx="26082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15:46:14Z</dcterms:created>
  <dc:creator>Dmytro</dc:creator>
  <dc:description/>
  <dc:language>en-US</dc:language>
  <cp:lastModifiedBy>kostevska</cp:lastModifiedBy>
  <cp:lastPrinted>2016-07-22T13:28:57Z</cp:lastPrinted>
  <dcterms:modified xsi:type="dcterms:W3CDTF">2016-08-19T13:34:52Z</dcterms:modified>
  <cp:revision>135</cp:revision>
  <dc:subject/>
  <dc:title>Название презентации</dc:title>
</cp:coreProperties>
</file>